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96A-5A23-47B9-9D7F-1CA508E1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7A7-8729-496E-8C58-E5527162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500-A3F4-45AA-975E-F57E91F1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427-9A5D-4320-9AAE-49C5281C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0CB-E653-4921-9491-D54FCD18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EC1-9BBF-4FE8-9CA6-CF44D15A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539-65DF-4216-8DBE-EB6AE1FC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EA5-D5E4-49ED-B3D6-4A09E8F6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CF0-AAE6-4B70-A11E-798AB7DE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912-1E33-4349-AD9F-4693020F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64B-CDF7-470A-8E0E-CFE325F5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4C3-1DF4-468A-A983-CF656D7B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CC98-B2C3-4341-AB05-FB6A88B83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edvabnastezka.cz/z/as/Armenie/" TargetMode="External"/><Relationship Id="rId2" Type="http://schemas.openxmlformats.org/officeDocument/2006/relationships/hyperlink" Target="http://www.hedvabnastezka.cz/z/as/Azerbajdzan/" TargetMode="External"/><Relationship Id="rId3" Type="http://schemas.openxmlformats.org/officeDocument/2006/relationships/hyperlink" Target="http://www.hedvabnastezka.cz/z/as/Gruzie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KAVKAZ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976720" cy="4551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00280" y="1916280"/>
            <a:ext cx="1473120" cy="1682640"/>
          </a:xfrm>
          <a:custGeom>
            <a:avLst/>
            <a:gdLst/>
            <a:ahLst/>
            <a:rect l="l" t="t" r="r" b="b"/>
            <a:pathLst>
              <a:path w="928" h="1060">
                <a:moveTo>
                  <a:pt x="182" y="0"/>
                </a:moveTo>
                <a:cubicBezTo>
                  <a:pt x="243" y="9"/>
                  <a:pt x="306" y="7"/>
                  <a:pt x="364" y="27"/>
                </a:cubicBezTo>
                <a:cubicBezTo>
                  <a:pt x="404" y="41"/>
                  <a:pt x="442" y="68"/>
                  <a:pt x="483" y="82"/>
                </a:cubicBezTo>
                <a:cubicBezTo>
                  <a:pt x="498" y="97"/>
                  <a:pt x="511" y="115"/>
                  <a:pt x="529" y="128"/>
                </a:cubicBezTo>
                <a:cubicBezTo>
                  <a:pt x="541" y="137"/>
                  <a:pt x="555" y="145"/>
                  <a:pt x="566" y="155"/>
                </a:cubicBezTo>
                <a:cubicBezTo>
                  <a:pt x="585" y="172"/>
                  <a:pt x="602" y="192"/>
                  <a:pt x="620" y="210"/>
                </a:cubicBezTo>
                <a:cubicBezTo>
                  <a:pt x="626" y="216"/>
                  <a:pt x="639" y="228"/>
                  <a:pt x="639" y="228"/>
                </a:cubicBezTo>
                <a:cubicBezTo>
                  <a:pt x="651" y="252"/>
                  <a:pt x="670" y="298"/>
                  <a:pt x="684" y="320"/>
                </a:cubicBezTo>
                <a:cubicBezTo>
                  <a:pt x="700" y="346"/>
                  <a:pt x="722" y="368"/>
                  <a:pt x="739" y="393"/>
                </a:cubicBezTo>
                <a:cubicBezTo>
                  <a:pt x="746" y="404"/>
                  <a:pt x="764" y="399"/>
                  <a:pt x="776" y="402"/>
                </a:cubicBezTo>
                <a:cubicBezTo>
                  <a:pt x="815" y="428"/>
                  <a:pt x="847" y="459"/>
                  <a:pt x="886" y="484"/>
                </a:cubicBezTo>
                <a:cubicBezTo>
                  <a:pt x="928" y="613"/>
                  <a:pt x="911" y="538"/>
                  <a:pt x="895" y="786"/>
                </a:cubicBezTo>
                <a:cubicBezTo>
                  <a:pt x="894" y="799"/>
                  <a:pt x="894" y="813"/>
                  <a:pt x="886" y="823"/>
                </a:cubicBezTo>
                <a:cubicBezTo>
                  <a:pt x="872" y="839"/>
                  <a:pt x="849" y="847"/>
                  <a:pt x="831" y="859"/>
                </a:cubicBezTo>
                <a:cubicBezTo>
                  <a:pt x="815" y="870"/>
                  <a:pt x="795" y="902"/>
                  <a:pt x="785" y="914"/>
                </a:cubicBezTo>
                <a:cubicBezTo>
                  <a:pt x="740" y="965"/>
                  <a:pt x="741" y="959"/>
                  <a:pt x="684" y="996"/>
                </a:cubicBezTo>
                <a:cubicBezTo>
                  <a:pt x="669" y="1006"/>
                  <a:pt x="648" y="1005"/>
                  <a:pt x="630" y="1006"/>
                </a:cubicBezTo>
                <a:cubicBezTo>
                  <a:pt x="481" y="1012"/>
                  <a:pt x="331" y="1012"/>
                  <a:pt x="182" y="1015"/>
                </a:cubicBezTo>
                <a:cubicBezTo>
                  <a:pt x="119" y="1056"/>
                  <a:pt x="148" y="1044"/>
                  <a:pt x="99" y="1060"/>
                </a:cubicBezTo>
                <a:cubicBezTo>
                  <a:pt x="0" y="912"/>
                  <a:pt x="74" y="1034"/>
                  <a:pt x="90" y="594"/>
                </a:cubicBezTo>
                <a:cubicBezTo>
                  <a:pt x="92" y="538"/>
                  <a:pt x="101" y="526"/>
                  <a:pt x="118" y="475"/>
                </a:cubicBezTo>
                <a:cubicBezTo>
                  <a:pt x="121" y="466"/>
                  <a:pt x="127" y="448"/>
                  <a:pt x="127" y="448"/>
                </a:cubicBezTo>
                <a:cubicBezTo>
                  <a:pt x="129" y="382"/>
                  <a:pt x="102" y="76"/>
                  <a:pt x="182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360" y="1755720"/>
            <a:ext cx="1649160" cy="1968480"/>
          </a:xfrm>
          <a:custGeom>
            <a:avLst/>
            <a:gdLst/>
            <a:ahLst/>
            <a:rect l="l" t="t" r="r" b="b"/>
            <a:pathLst>
              <a:path w="1039" h="1240">
                <a:moveTo>
                  <a:pt x="45" y="37"/>
                </a:moveTo>
                <a:cubicBezTo>
                  <a:pt x="51" y="188"/>
                  <a:pt x="55" y="336"/>
                  <a:pt x="73" y="485"/>
                </a:cubicBezTo>
                <a:cubicBezTo>
                  <a:pt x="70" y="637"/>
                  <a:pt x="64" y="790"/>
                  <a:pt x="64" y="942"/>
                </a:cubicBezTo>
                <a:cubicBezTo>
                  <a:pt x="64" y="1018"/>
                  <a:pt x="0" y="1149"/>
                  <a:pt x="73" y="1171"/>
                </a:cubicBezTo>
                <a:cubicBezTo>
                  <a:pt x="304" y="1240"/>
                  <a:pt x="554" y="1164"/>
                  <a:pt x="795" y="1161"/>
                </a:cubicBezTo>
                <a:cubicBezTo>
                  <a:pt x="831" y="1137"/>
                  <a:pt x="866" y="1118"/>
                  <a:pt x="896" y="1088"/>
                </a:cubicBezTo>
                <a:cubicBezTo>
                  <a:pt x="899" y="1076"/>
                  <a:pt x="898" y="1062"/>
                  <a:pt x="905" y="1052"/>
                </a:cubicBezTo>
                <a:cubicBezTo>
                  <a:pt x="911" y="1043"/>
                  <a:pt x="923" y="1040"/>
                  <a:pt x="932" y="1033"/>
                </a:cubicBezTo>
                <a:cubicBezTo>
                  <a:pt x="953" y="1016"/>
                  <a:pt x="953" y="1012"/>
                  <a:pt x="969" y="988"/>
                </a:cubicBezTo>
                <a:cubicBezTo>
                  <a:pt x="972" y="976"/>
                  <a:pt x="973" y="963"/>
                  <a:pt x="978" y="951"/>
                </a:cubicBezTo>
                <a:cubicBezTo>
                  <a:pt x="989" y="926"/>
                  <a:pt x="1015" y="878"/>
                  <a:pt x="1015" y="878"/>
                </a:cubicBezTo>
                <a:cubicBezTo>
                  <a:pt x="1039" y="779"/>
                  <a:pt x="1034" y="532"/>
                  <a:pt x="905" y="467"/>
                </a:cubicBezTo>
                <a:cubicBezTo>
                  <a:pt x="806" y="417"/>
                  <a:pt x="860" y="448"/>
                  <a:pt x="777" y="393"/>
                </a:cubicBezTo>
                <a:cubicBezTo>
                  <a:pt x="730" y="362"/>
                  <a:pt x="695" y="320"/>
                  <a:pt x="640" y="302"/>
                </a:cubicBezTo>
                <a:cubicBezTo>
                  <a:pt x="614" y="277"/>
                  <a:pt x="586" y="277"/>
                  <a:pt x="557" y="256"/>
                </a:cubicBezTo>
                <a:cubicBezTo>
                  <a:pt x="514" y="225"/>
                  <a:pt x="475" y="185"/>
                  <a:pt x="429" y="156"/>
                </a:cubicBezTo>
                <a:cubicBezTo>
                  <a:pt x="392" y="98"/>
                  <a:pt x="352" y="47"/>
                  <a:pt x="283" y="28"/>
                </a:cubicBezTo>
                <a:cubicBezTo>
                  <a:pt x="271" y="25"/>
                  <a:pt x="259" y="23"/>
                  <a:pt x="247" y="19"/>
                </a:cubicBezTo>
                <a:cubicBezTo>
                  <a:pt x="228" y="13"/>
                  <a:pt x="192" y="0"/>
                  <a:pt x="192" y="0"/>
                </a:cubicBezTo>
                <a:cubicBezTo>
                  <a:pt x="93" y="12"/>
                  <a:pt x="142" y="0"/>
                  <a:pt x="45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31120" y="1666800"/>
            <a:ext cx="1250640" cy="4105440"/>
          </a:xfrm>
          <a:custGeom>
            <a:avLst/>
            <a:gdLst/>
            <a:ahLst/>
            <a:rect l="l" t="t" r="r" b="b"/>
            <a:pathLst>
              <a:path w="788" h="2586">
                <a:moveTo>
                  <a:pt x="119" y="102"/>
                </a:moveTo>
                <a:cubicBezTo>
                  <a:pt x="110" y="111"/>
                  <a:pt x="99" y="118"/>
                  <a:pt x="92" y="129"/>
                </a:cubicBezTo>
                <a:cubicBezTo>
                  <a:pt x="87" y="137"/>
                  <a:pt x="89" y="149"/>
                  <a:pt x="83" y="157"/>
                </a:cubicBezTo>
                <a:cubicBezTo>
                  <a:pt x="70" y="174"/>
                  <a:pt x="37" y="203"/>
                  <a:pt x="37" y="203"/>
                </a:cubicBezTo>
                <a:cubicBezTo>
                  <a:pt x="12" y="279"/>
                  <a:pt x="7" y="361"/>
                  <a:pt x="0" y="440"/>
                </a:cubicBezTo>
                <a:cubicBezTo>
                  <a:pt x="7" y="526"/>
                  <a:pt x="7" y="639"/>
                  <a:pt x="73" y="705"/>
                </a:cubicBezTo>
                <a:cubicBezTo>
                  <a:pt x="81" y="736"/>
                  <a:pt x="92" y="779"/>
                  <a:pt x="110" y="806"/>
                </a:cubicBezTo>
                <a:cubicBezTo>
                  <a:pt x="135" y="844"/>
                  <a:pt x="172" y="880"/>
                  <a:pt x="201" y="916"/>
                </a:cubicBezTo>
                <a:cubicBezTo>
                  <a:pt x="219" y="939"/>
                  <a:pt x="249" y="946"/>
                  <a:pt x="265" y="971"/>
                </a:cubicBezTo>
                <a:cubicBezTo>
                  <a:pt x="286" y="1002"/>
                  <a:pt x="290" y="1026"/>
                  <a:pt x="302" y="1062"/>
                </a:cubicBezTo>
                <a:cubicBezTo>
                  <a:pt x="309" y="1083"/>
                  <a:pt x="339" y="1117"/>
                  <a:pt x="339" y="1117"/>
                </a:cubicBezTo>
                <a:cubicBezTo>
                  <a:pt x="351" y="1164"/>
                  <a:pt x="352" y="1215"/>
                  <a:pt x="384" y="1254"/>
                </a:cubicBezTo>
                <a:cubicBezTo>
                  <a:pt x="402" y="1276"/>
                  <a:pt x="407" y="1271"/>
                  <a:pt x="430" y="1291"/>
                </a:cubicBezTo>
                <a:cubicBezTo>
                  <a:pt x="473" y="1328"/>
                  <a:pt x="438" y="1312"/>
                  <a:pt x="485" y="1327"/>
                </a:cubicBezTo>
                <a:cubicBezTo>
                  <a:pt x="536" y="1380"/>
                  <a:pt x="652" y="1405"/>
                  <a:pt x="723" y="1428"/>
                </a:cubicBezTo>
                <a:cubicBezTo>
                  <a:pt x="720" y="1455"/>
                  <a:pt x="733" y="1492"/>
                  <a:pt x="713" y="1510"/>
                </a:cubicBezTo>
                <a:cubicBezTo>
                  <a:pt x="690" y="1530"/>
                  <a:pt x="652" y="1516"/>
                  <a:pt x="622" y="1519"/>
                </a:cubicBezTo>
                <a:cubicBezTo>
                  <a:pt x="582" y="1522"/>
                  <a:pt x="543" y="1525"/>
                  <a:pt x="503" y="1528"/>
                </a:cubicBezTo>
                <a:cubicBezTo>
                  <a:pt x="439" y="1540"/>
                  <a:pt x="441" y="1550"/>
                  <a:pt x="403" y="1601"/>
                </a:cubicBezTo>
                <a:cubicBezTo>
                  <a:pt x="382" y="1661"/>
                  <a:pt x="372" y="1722"/>
                  <a:pt x="357" y="1784"/>
                </a:cubicBezTo>
                <a:cubicBezTo>
                  <a:pt x="326" y="2065"/>
                  <a:pt x="336" y="1945"/>
                  <a:pt x="366" y="2507"/>
                </a:cubicBezTo>
                <a:cubicBezTo>
                  <a:pt x="368" y="2553"/>
                  <a:pt x="464" y="2566"/>
                  <a:pt x="485" y="2571"/>
                </a:cubicBezTo>
                <a:cubicBezTo>
                  <a:pt x="497" y="2574"/>
                  <a:pt x="521" y="2580"/>
                  <a:pt x="521" y="2580"/>
                </a:cubicBezTo>
                <a:cubicBezTo>
                  <a:pt x="603" y="2574"/>
                  <a:pt x="689" y="2586"/>
                  <a:pt x="768" y="2561"/>
                </a:cubicBezTo>
                <a:cubicBezTo>
                  <a:pt x="788" y="2554"/>
                  <a:pt x="777" y="2519"/>
                  <a:pt x="777" y="2497"/>
                </a:cubicBezTo>
                <a:cubicBezTo>
                  <a:pt x="777" y="2426"/>
                  <a:pt x="775" y="2426"/>
                  <a:pt x="759" y="2379"/>
                </a:cubicBezTo>
                <a:cubicBezTo>
                  <a:pt x="759" y="2356"/>
                  <a:pt x="699" y="1782"/>
                  <a:pt x="787" y="1537"/>
                </a:cubicBezTo>
                <a:cubicBezTo>
                  <a:pt x="784" y="1107"/>
                  <a:pt x="783" y="678"/>
                  <a:pt x="777" y="248"/>
                </a:cubicBezTo>
                <a:cubicBezTo>
                  <a:pt x="777" y="236"/>
                  <a:pt x="754" y="107"/>
                  <a:pt x="741" y="102"/>
                </a:cubicBezTo>
                <a:cubicBezTo>
                  <a:pt x="641" y="63"/>
                  <a:pt x="528" y="89"/>
                  <a:pt x="421" y="84"/>
                </a:cubicBezTo>
                <a:cubicBezTo>
                  <a:pt x="341" y="71"/>
                  <a:pt x="17" y="0"/>
                  <a:pt x="119" y="10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89120" y="1797120"/>
            <a:ext cx="4503960" cy="2124000"/>
          </a:xfrm>
          <a:custGeom>
            <a:avLst/>
            <a:gdLst/>
            <a:ahLst/>
            <a:rect l="l" t="t" r="r" b="b"/>
            <a:pathLst>
              <a:path w="2837" h="1338">
                <a:moveTo>
                  <a:pt x="6" y="20"/>
                </a:moveTo>
                <a:cubicBezTo>
                  <a:pt x="9" y="63"/>
                  <a:pt x="0" y="108"/>
                  <a:pt x="15" y="148"/>
                </a:cubicBezTo>
                <a:cubicBezTo>
                  <a:pt x="30" y="186"/>
                  <a:pt x="94" y="189"/>
                  <a:pt x="124" y="194"/>
                </a:cubicBezTo>
                <a:cubicBezTo>
                  <a:pt x="173" y="242"/>
                  <a:pt x="221" y="287"/>
                  <a:pt x="289" y="303"/>
                </a:cubicBezTo>
                <a:cubicBezTo>
                  <a:pt x="316" y="322"/>
                  <a:pt x="331" y="339"/>
                  <a:pt x="362" y="349"/>
                </a:cubicBezTo>
                <a:cubicBezTo>
                  <a:pt x="410" y="397"/>
                  <a:pt x="443" y="456"/>
                  <a:pt x="490" y="505"/>
                </a:cubicBezTo>
                <a:cubicBezTo>
                  <a:pt x="501" y="537"/>
                  <a:pt x="516" y="543"/>
                  <a:pt x="536" y="569"/>
                </a:cubicBezTo>
                <a:cubicBezTo>
                  <a:pt x="551" y="588"/>
                  <a:pt x="552" y="618"/>
                  <a:pt x="572" y="633"/>
                </a:cubicBezTo>
                <a:cubicBezTo>
                  <a:pt x="629" y="676"/>
                  <a:pt x="824" y="668"/>
                  <a:pt x="847" y="669"/>
                </a:cubicBezTo>
                <a:cubicBezTo>
                  <a:pt x="909" y="678"/>
                  <a:pt x="971" y="684"/>
                  <a:pt x="1030" y="706"/>
                </a:cubicBezTo>
                <a:cubicBezTo>
                  <a:pt x="1105" y="734"/>
                  <a:pt x="1180" y="773"/>
                  <a:pt x="1258" y="788"/>
                </a:cubicBezTo>
                <a:cubicBezTo>
                  <a:pt x="1324" y="820"/>
                  <a:pt x="1413" y="831"/>
                  <a:pt x="1487" y="843"/>
                </a:cubicBezTo>
                <a:cubicBezTo>
                  <a:pt x="1549" y="864"/>
                  <a:pt x="1610" y="878"/>
                  <a:pt x="1670" y="907"/>
                </a:cubicBezTo>
                <a:cubicBezTo>
                  <a:pt x="1700" y="937"/>
                  <a:pt x="1723" y="941"/>
                  <a:pt x="1761" y="962"/>
                </a:cubicBezTo>
                <a:cubicBezTo>
                  <a:pt x="1777" y="971"/>
                  <a:pt x="1791" y="982"/>
                  <a:pt x="1807" y="989"/>
                </a:cubicBezTo>
                <a:cubicBezTo>
                  <a:pt x="1816" y="993"/>
                  <a:pt x="1907" y="1020"/>
                  <a:pt x="1916" y="1026"/>
                </a:cubicBezTo>
                <a:cubicBezTo>
                  <a:pt x="1954" y="1051"/>
                  <a:pt x="1933" y="1041"/>
                  <a:pt x="1980" y="1053"/>
                </a:cubicBezTo>
                <a:cubicBezTo>
                  <a:pt x="1989" y="1059"/>
                  <a:pt x="1999" y="1064"/>
                  <a:pt x="2008" y="1071"/>
                </a:cubicBezTo>
                <a:cubicBezTo>
                  <a:pt x="2015" y="1076"/>
                  <a:pt x="2019" y="1085"/>
                  <a:pt x="2026" y="1090"/>
                </a:cubicBezTo>
                <a:cubicBezTo>
                  <a:pt x="2076" y="1124"/>
                  <a:pt x="2136" y="1147"/>
                  <a:pt x="2191" y="1172"/>
                </a:cubicBezTo>
                <a:cubicBezTo>
                  <a:pt x="2238" y="1193"/>
                  <a:pt x="2287" y="1223"/>
                  <a:pt x="2337" y="1236"/>
                </a:cubicBezTo>
                <a:cubicBezTo>
                  <a:pt x="2384" y="1249"/>
                  <a:pt x="2435" y="1251"/>
                  <a:pt x="2483" y="1263"/>
                </a:cubicBezTo>
                <a:cubicBezTo>
                  <a:pt x="2754" y="1255"/>
                  <a:pt x="2837" y="1338"/>
                  <a:pt x="2794" y="1090"/>
                </a:cubicBezTo>
                <a:cubicBezTo>
                  <a:pt x="2793" y="1081"/>
                  <a:pt x="2782" y="1077"/>
                  <a:pt x="2776" y="1071"/>
                </a:cubicBezTo>
                <a:cubicBezTo>
                  <a:pt x="2761" y="1025"/>
                  <a:pt x="2737" y="1018"/>
                  <a:pt x="2694" y="989"/>
                </a:cubicBezTo>
                <a:cubicBezTo>
                  <a:pt x="2663" y="967"/>
                  <a:pt x="2688" y="971"/>
                  <a:pt x="2648" y="953"/>
                </a:cubicBezTo>
                <a:cubicBezTo>
                  <a:pt x="2613" y="937"/>
                  <a:pt x="2566" y="916"/>
                  <a:pt x="2529" y="907"/>
                </a:cubicBezTo>
                <a:cubicBezTo>
                  <a:pt x="2481" y="875"/>
                  <a:pt x="2412" y="848"/>
                  <a:pt x="2355" y="834"/>
                </a:cubicBezTo>
                <a:cubicBezTo>
                  <a:pt x="2326" y="804"/>
                  <a:pt x="2282" y="792"/>
                  <a:pt x="2246" y="770"/>
                </a:cubicBezTo>
                <a:cubicBezTo>
                  <a:pt x="2174" y="726"/>
                  <a:pt x="2100" y="670"/>
                  <a:pt x="2072" y="587"/>
                </a:cubicBezTo>
                <a:cubicBezTo>
                  <a:pt x="2069" y="538"/>
                  <a:pt x="2071" y="489"/>
                  <a:pt x="2063" y="441"/>
                </a:cubicBezTo>
                <a:cubicBezTo>
                  <a:pt x="2053" y="382"/>
                  <a:pt x="1954" y="349"/>
                  <a:pt x="1907" y="340"/>
                </a:cubicBezTo>
                <a:cubicBezTo>
                  <a:pt x="1627" y="228"/>
                  <a:pt x="1420" y="281"/>
                  <a:pt x="1066" y="276"/>
                </a:cubicBezTo>
                <a:cubicBezTo>
                  <a:pt x="1048" y="270"/>
                  <a:pt x="1029" y="264"/>
                  <a:pt x="1011" y="258"/>
                </a:cubicBezTo>
                <a:cubicBezTo>
                  <a:pt x="1003" y="255"/>
                  <a:pt x="1000" y="245"/>
                  <a:pt x="993" y="239"/>
                </a:cubicBezTo>
                <a:cubicBezTo>
                  <a:pt x="966" y="217"/>
                  <a:pt x="934" y="205"/>
                  <a:pt x="902" y="194"/>
                </a:cubicBezTo>
                <a:cubicBezTo>
                  <a:pt x="873" y="165"/>
                  <a:pt x="841" y="165"/>
                  <a:pt x="801" y="157"/>
                </a:cubicBezTo>
                <a:cubicBezTo>
                  <a:pt x="734" y="113"/>
                  <a:pt x="648" y="100"/>
                  <a:pt x="572" y="75"/>
                </a:cubicBezTo>
                <a:cubicBezTo>
                  <a:pt x="507" y="54"/>
                  <a:pt x="474" y="0"/>
                  <a:pt x="399" y="2"/>
                </a:cubicBezTo>
                <a:cubicBezTo>
                  <a:pt x="268" y="5"/>
                  <a:pt x="137" y="14"/>
                  <a:pt x="6" y="2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16440" y="3835440"/>
            <a:ext cx="450720" cy="382680"/>
          </a:xfrm>
          <a:custGeom>
            <a:avLst/>
            <a:gdLst/>
            <a:ahLst/>
            <a:rect l="l" t="t" r="r" b="b"/>
            <a:pathLst>
              <a:path w="284" h="241">
                <a:moveTo>
                  <a:pt x="93" y="16"/>
                </a:moveTo>
                <a:cubicBezTo>
                  <a:pt x="0" y="46"/>
                  <a:pt x="51" y="184"/>
                  <a:pt x="102" y="235"/>
                </a:cubicBezTo>
                <a:cubicBezTo>
                  <a:pt x="145" y="232"/>
                  <a:pt x="190" y="241"/>
                  <a:pt x="230" y="226"/>
                </a:cubicBezTo>
                <a:cubicBezTo>
                  <a:pt x="251" y="218"/>
                  <a:pt x="267" y="171"/>
                  <a:pt x="267" y="171"/>
                </a:cubicBezTo>
                <a:cubicBezTo>
                  <a:pt x="284" y="119"/>
                  <a:pt x="274" y="71"/>
                  <a:pt x="221" y="53"/>
                </a:cubicBezTo>
                <a:cubicBezTo>
                  <a:pt x="171" y="0"/>
                  <a:pt x="172" y="5"/>
                  <a:pt x="93" y="1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8320" y="6308640"/>
            <a:ext cx="72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najetí na satelitní obrázek se zobrazí vybrané oblasti Zakavkaz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71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ojice států (bývalé státy SSSR, dnes SNS) jsou zmítány národnostními konflikty (Náhorní Karabach, Osetie, Abcházie). Úroveň hospodářství je i proto nízká a nerozvíjí se. Přitom mají značné zásoby nerostů (ropa, zemní plyn, mědi aj.), příznivé klima (bavlník, čajovník, ovoce, tabáku aj.) a vynikající podmínky pro cestovní ruch (horstva Kavkazu, Černomořské pobřeží aj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2508120"/>
            <a:ext cx="54007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ty Zakavkaz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mé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Jerevan) – pravoslavná církev, pokles hladiny jezera Se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Ázerbájdžá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Baku) – největší stát oblasti ležící u Kaspického moře (těžba rop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ruz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bilisi) – rodiště Stalina (město Gori), černomořský stát, zemědělstv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8:38:29Z</dcterms:created>
  <dc:creator>kk</dc:creator>
  <dc:description/>
  <dc:language>en-US</dc:language>
  <cp:lastModifiedBy>kk</cp:lastModifiedBy>
  <dcterms:modified xsi:type="dcterms:W3CDTF">2007-06-10T19:09:41Z</dcterms:modified>
  <cp:revision>5</cp:revision>
  <dc:subject/>
  <dc:title>ZAKAVKAZSKO</dc:title>
</cp:coreProperties>
</file>