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5F3-EB6C-44EF-86EE-5994E0D5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35B-7E9F-4343-A58A-2FF6D37A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36C-E330-4860-B6FE-8324EA76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DCD-6993-4220-9AD7-BDC3BE98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28E-4293-45CC-AA06-AA75F5C2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831-8AB9-4C10-B623-0D2A8551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58B-C97B-4912-8DF5-442E7135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F2F-63FE-4FC8-BD42-9109EBC1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BEB-8354-4577-BD72-427A5E4E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26D-C369-47A6-B75E-8AF1F97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858-5616-4B24-BDD7-680FF4A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FBC-5BDD-41F8-8E19-037E1C4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E205-A29B-47D2-8E95-EB92D2286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ÝCHODNÍ A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hina-mountains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67668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112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510552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rozsáhlejší region s vysokým soustředěním obyvatel. Zahrnuje: Čínu (Macao, Hongkong, Taiwan), Japonsko, Korejskou republiku, KLDR, Mongolsk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ast_asia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91080"/>
          </a:xfrm>
          <a:prstGeom prst="rect">
            <a:avLst/>
          </a:prstGeom>
          <a:ln w="0">
            <a:noFill/>
          </a:ln>
        </p:spPr>
      </p:pic>
      <p:pic>
        <p:nvPicPr>
          <p:cNvPr id="46" name="asia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rodní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Times New Roman"/>
              </a:rPr>
              <a:t>Povrc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Horské masivy: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Himálaj, Karákórám, Kunlun Shan, Ťan Šan, Tibetská ploš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Nížiny: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Velká čínská nížina (Huang He, Chang Jia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Pouště: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Gobi, Taklamak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Times New Roman"/>
              </a:rPr>
              <a:t>Podneb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Monzunové podnebí ovlivňují mořské proudy (Kuro-šio, Oja-ši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Times New Roman"/>
              </a:rPr>
              <a:t>Vegetace: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od jehličnatých lesů přes stepi (zemědělství) a pouště po subtropické les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obi-1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3886200" cy="2671560"/>
          </a:xfrm>
          <a:prstGeom prst="rect">
            <a:avLst/>
          </a:prstGeom>
          <a:ln w="0">
            <a:noFill/>
          </a:ln>
        </p:spPr>
      </p:pic>
      <p:pic>
        <p:nvPicPr>
          <p:cNvPr id="50" name="kinka-winter-69.3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3434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oekonomické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ever (pšenice a kukuřice, brambory), jih (rýže, batáty, sója) + čaj, bavlna. Důležitý je rybolo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ůmysl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zdílná úroveň (tržní hospodářství a centrálně řízené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jhustěji osídlené východní pobřeží, vnitrozemí říd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urta%20i%20osniezone%20szczyty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952880" cy="3270240"/>
          </a:xfrm>
          <a:prstGeom prst="rect">
            <a:avLst/>
          </a:prstGeom>
          <a:ln w="0">
            <a:noFill/>
          </a:ln>
        </p:spPr>
      </p:pic>
      <p:pic>
        <p:nvPicPr>
          <p:cNvPr id="54" name="2-china-fishing-birds" descr=""/>
          <p:cNvPicPr/>
          <p:nvPr/>
        </p:nvPicPr>
        <p:blipFill>
          <a:blip r:embed="rId2"/>
          <a:stretch/>
        </p:blipFill>
        <p:spPr>
          <a:xfrm>
            <a:off x="5605560" y="2514600"/>
            <a:ext cx="3386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8:21:44Z</dcterms:created>
  <dc:creator>kk</dc:creator>
  <dc:description/>
  <dc:language>en-US</dc:language>
  <cp:lastModifiedBy>kk</cp:lastModifiedBy>
  <dcterms:modified xsi:type="dcterms:W3CDTF">2006-03-20T20:41:54Z</dcterms:modified>
  <cp:revision>2</cp:revision>
  <dc:subject/>
  <dc:title>VÝCHODNÍ ASIE</dc:title>
</cp:coreProperties>
</file>