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3E5-0E84-4876-9AF6-485AE015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05C-ABB7-465C-A963-545F3C47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C43-424E-41CB-820E-2350676C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C8E-28C9-4F7D-A11A-DB5DD819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1C9-6A42-4661-A5DA-BB1FBA3B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163-E12E-41C1-BC75-CB66851C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2EE-6884-44A1-B50F-7CF2F255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88D-ECAF-436C-ACBC-929B442C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DA8-DA77-4151-867F-614F76F1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1F5-8CD6-4B0D-A8A6-CA700A6A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1A1-F816-42F8-AA0F-D1C41745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C82-C7C2-435A-AB92-6D1F41EC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D0BF-E468-431A-B3EE-EB6256E83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dstvo Asie – samostatná prá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ypiš okrajová moře, zálivy a průliv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chého, Indického, Severního ledového oceánu a Atlant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Najdi a vypiš nejdůležitější řek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učebnice str. 4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notlivých oceánů a bezodtokých oblas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ypiš nejdůležitější jezera Asie (učebnice str. 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ápis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e – 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ahují zd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šechny podnebné a vegetační pás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velká rozmanitost flory a fau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ovské veletoky, nejhlubší jezero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jk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 největší jezero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aspické moř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věta, nejslanější jezero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rtvé moř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Vybudované obrovské přehradní nádrže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ři soutěsk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Velká část povrchu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zodtoké obla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ejvětší na světě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ře, zálivy, průliv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verní ledový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Karské m., m. Laptěvů, Východosibiřské m., Beringův průl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chý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ringovo m., Ochotské m., Japonské m., Žluté m., Východočínské m., Filipínské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cký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Jihočínské m., Jávské m., Thajský záliv, Adamanské m., Bengálský záliv, Malacký průliv, Bengálský záliv, Arabské m., Ománský záliv, Perský záliv, Rudé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lantický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ředozemní m., Černé m., Bospor a Dardanely, Suezský průpla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Řek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verní ledový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b, Jenisej, 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Tichý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mur, Huang-He, Chang-Ji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dický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ekong, Brahmaputra, Ganga, Indus, Eufrat a Tig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zodtoké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Ural, Syrdarja, Amudar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z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spické moře (největší jezero svě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jkal (nejhlubší jezero svě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alské (pomalu vysychající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rtvé moře (nejníže položené jezero svě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lcha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21:06:26Z</dcterms:created>
  <dc:creator>kk</dc:creator>
  <dc:description/>
  <dc:language>en-US</dc:language>
  <cp:lastModifiedBy>kk</cp:lastModifiedBy>
  <dcterms:modified xsi:type="dcterms:W3CDTF">2007-01-28T08:06:14Z</dcterms:modified>
  <cp:revision>5</cp:revision>
  <dc:subject/>
  <dc:title>Vodstvo Asie – samostatná práce</dc:title>
</cp:coreProperties>
</file>