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DBD7-3320-4196-A54E-8F63B4ABE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0F8C-2021-4C1F-AC26-99AF81D6E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1E80-E861-4728-B4AA-07DA32C19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D546-8D0F-486F-B210-EFE42521D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5D45-66EE-4132-90F4-6E4BBD7E8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F472-D0F2-45AC-8C76-DFAE88E57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CC83-DDBD-450A-821C-B16005DBF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4564-1772-4782-944E-E1029BC19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766A-9FFE-4238-9BC6-583EED479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71B1-33FE-4E84-91F0-D660D79D6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FFB2-BBA4-48C2-B924-651DA6552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186A-DB9B-478B-A27D-4D2C45B12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9FCCF-8765-4C5A-AB2A-CBB4873889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cs.wikipedia.org/wiki/Spole&#269;enstv&#237;_nez&#225;visl&#253;ch_st&#225;t&#367;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cs.wikipedia.org/wiki/Afgh&#225;nist&#225;n" TargetMode="External"/><Relationship Id="rId2" Type="http://schemas.openxmlformats.org/officeDocument/2006/relationships/hyperlink" Target="http://www.hedvabnastezka.cz/z/as/Afghanistan" TargetMode="External"/><Relationship Id="rId3" Type="http://schemas.openxmlformats.org/officeDocument/2006/relationships/hyperlink" Target="http://cs.wikipedia.org/wiki/Kazachst&#225;n" TargetMode="External"/><Relationship Id="rId4" Type="http://schemas.openxmlformats.org/officeDocument/2006/relationships/hyperlink" Target="http://www.hedvabnastezka.cz/z/as/Kazachstan" TargetMode="External"/><Relationship Id="rId5" Type="http://schemas.openxmlformats.org/officeDocument/2006/relationships/hyperlink" Target="http://cs.wikipedia.org/wiki/Kyrgyzst&#225;n" TargetMode="External"/><Relationship Id="rId6" Type="http://schemas.openxmlformats.org/officeDocument/2006/relationships/hyperlink" Target="http://www.hedvabnastezka.cz/z/as/Kyrgyzstan" TargetMode="External"/><Relationship Id="rId7" Type="http://schemas.openxmlformats.org/officeDocument/2006/relationships/hyperlink" Target="http://cs.wikipedia.org/wiki/T&#225;d&#382;ikist&#225;n" TargetMode="External"/><Relationship Id="rId8" Type="http://schemas.openxmlformats.org/officeDocument/2006/relationships/hyperlink" Target="http://www.hedvabnastezka.cz/z/as/Tadzikistan" TargetMode="External"/><Relationship Id="rId9" Type="http://schemas.openxmlformats.org/officeDocument/2006/relationships/hyperlink" Target="http://cs.wikipedia.org/wiki/Turkmenist&#225;n" TargetMode="External"/><Relationship Id="rId10" Type="http://schemas.openxmlformats.org/officeDocument/2006/relationships/hyperlink" Target="http://cs.wikipedia.org/wiki/Uzbekist&#225;n" TargetMode="External"/><Relationship Id="rId1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ŘEDNÍ AS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99640" y="4723920"/>
            <a:ext cx="77756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áty Střední Asie patří k bývalým státům SSSR (výjimka Afghánistán) dnes součástí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SNS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. Jedná se o politicky velmi neklidnou oblast, kde se setkávají stoupenci komunismu a demokracie s ideologií islámu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Samarkand"/>
          <p:cNvPicPr/>
          <p:nvPr/>
        </p:nvPicPr>
        <p:blipFill>
          <a:blip r:embed="rId2"/>
          <a:stretch/>
        </p:blipFill>
        <p:spPr>
          <a:xfrm>
            <a:off x="0" y="981000"/>
            <a:ext cx="4762440" cy="2990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KYRGYZSTAN"/>
          <p:cNvPicPr/>
          <p:nvPr/>
        </p:nvPicPr>
        <p:blipFill>
          <a:blip r:embed="rId3"/>
          <a:stretch/>
        </p:blipFill>
        <p:spPr>
          <a:xfrm>
            <a:off x="4572000" y="1413000"/>
            <a:ext cx="4572000" cy="31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0" y="0"/>
            <a:ext cx="89647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fghánistán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(Kábul) – nepatřil k SSSR (válka se SSSR), dnes válka proti terorismu (Talibán, Al Kaidá) (více 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ZDE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Kazachstán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(Astana) – na pomezí Evropy a Asie, Bajkonur (kosmodrom) (více 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ZDE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Kyrgyzstán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(Biškek) – Ferganská kotlina (zemědělsky i sídelně využívána) jinak hornatá (Ťan-šan, Pamír) (více 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ZDE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Tádžikistán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(Dušanbe) – horský stát (Pamír) (více 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ZDE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Turkmenistán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(Ašchabad) -  těžba ropy, Karakumský kanál (zavlažování) (více ZDE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Uzbekistán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(Taškent – největší město oblasti) – památky Buchara a Samarkand (více ZDE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0T17:39:53Z</dcterms:created>
  <dc:creator>kk</dc:creator>
  <dc:description/>
  <dc:language>en-US</dc:language>
  <cp:lastModifiedBy>kk</cp:lastModifiedBy>
  <dcterms:modified xsi:type="dcterms:W3CDTF">2007-06-10T18:22:46Z</dcterms:modified>
  <cp:revision>3</cp:revision>
  <dc:subject/>
  <dc:title>STŘEDNÍ ASIE</dc:title>
</cp:coreProperties>
</file>