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FB8-FCF5-42F7-ACCE-4DCE30D7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618-9DFD-4ABF-B56B-3B153381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59E-F0B2-4EA7-9A43-C08723B0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D76-1E12-4EC0-81F1-CDEBC95A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9EF-7C04-4F2D-960E-A3FB4B60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723-3E78-4525-8C7A-FDFEB55D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6F5-8C67-47D6-BE21-C488F190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5E6-8F6F-43AD-9C84-6DCD34ED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44D-9CEA-4D40-84D6-03C56BD6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FD5-8A29-40E0-BBA1-5030A633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BF5-CE19-4FE4-B8BB-FC5DEFBD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599-B3A5-4A76-B194-4764E4CB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D956-89FC-4430-AA63-F9C1AA060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ŘEDNÍ A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19640" y="1919160"/>
            <a:ext cx="5724360" cy="4562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209760" cy="3529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8920" y="3068640"/>
            <a:ext cx="50328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vrch Střední Asie vyplňují na západě dvě pouště.......a……., které pokrývají…….. nížinu, sever vyplňuje ……..plošina a na východě vysoká horstva ………..a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ři jezera …….,………a…….jsou pozůstatky dávných moř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Aralského jezera pramení dvě nejvýznamnější řeky……….a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4248360" cy="3386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46400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inentální suché podnebí (pouště) není vhodné pro zemědělství – nutné zavlažování (ekologické problémy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ralské jezer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ké nerostné bohatství (uhlí, zemní plyn, ropa, železná rud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omě Afghánistánu se jedná o bývalé státy Sovětského svazu. Spojujícím článkem je islám, politická nestabili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hledej všech 6 států této oblasti a zjisti jejich hlavní mě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ralské jez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16938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516720" y="189000"/>
            <a:ext cx="2122560" cy="648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492360" y="2492280"/>
            <a:ext cx="2087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20:44:36Z</dcterms:created>
  <dc:creator>kk</dc:creator>
  <dc:description/>
  <dc:language>en-US</dc:language>
  <cp:lastModifiedBy>kk</cp:lastModifiedBy>
  <dcterms:modified xsi:type="dcterms:W3CDTF">2007-05-30T13:31:19Z</dcterms:modified>
  <cp:revision>6</cp:revision>
  <dc:subject/>
  <dc:title>STŘEDNÍ ASIE</dc:title>
</cp:coreProperties>
</file>