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ABD-0166-4DE0-B419-2C316738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C09-4FD3-402B-86E6-C5FB67BB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7AA-E3E3-41B3-BCBF-304349CE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05C-C46F-42B0-AC70-D5BB3876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6FE-3A69-4646-BBCA-BC7D2865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EAA-22EF-498C-913D-D1E94E4E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07D-B14C-4E77-871F-41186DC7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F84-A753-4BEE-BB7C-459C723B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F04-37E4-4F61-BAE2-90C5C18D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242-650D-4925-8A4F-B6183BEB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7B2-9F46-48BE-9129-244945CB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6DF-7D61-4E7E-A2A9-A1F3B60F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A310-CE89-41A0-9A1A-4183ABC38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nebí a vegetace A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manitost přír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ebí a vegetační pásy A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Asii jsou zastoupeny všechny podnebné a vegetační pá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neb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ge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Arktický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333399"/>
                </a:solidFill>
                <a:latin typeface="Arial"/>
              </a:rPr>
              <a:t>(chladný málo srážek)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trvale zaledněné, polární mraz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ubarktický </a:t>
            </a:r>
            <a:r>
              <a:rPr b="0" lang="cs-CZ" sz="1400" spc="-1" strike="noStrike">
                <a:solidFill>
                  <a:srgbClr val="333399"/>
                </a:solidFill>
                <a:latin typeface="Arial"/>
              </a:rPr>
              <a:t>(chladný málo sráže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undry a lesotund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00"/>
                </a:solidFill>
                <a:latin typeface="Arial"/>
              </a:rPr>
              <a:t>Mírný </a:t>
            </a:r>
            <a:r>
              <a:rPr b="0" lang="cs-CZ" sz="2000" spc="-1" strike="noStrike">
                <a:solidFill>
                  <a:srgbClr val="808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00"/>
                </a:solidFill>
                <a:latin typeface="Arial"/>
              </a:rPr>
              <a:t>tajga, listnaté lesy, stepi, chladné pou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Subtorpický </a:t>
            </a:r>
            <a:r>
              <a:rPr b="0" lang="cs-CZ" sz="1400" spc="-1" strike="noStrike">
                <a:solidFill>
                  <a:srgbClr val="99cc00"/>
                </a:solidFill>
                <a:latin typeface="Arial"/>
              </a:rPr>
              <a:t>(teplý, suchý)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středomořská vegetace, pouště, monzu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lesy, pou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00"/>
                </a:solidFill>
                <a:latin typeface="Arial"/>
              </a:rPr>
              <a:t>Tropy </a:t>
            </a:r>
            <a:r>
              <a:rPr b="0" lang="cs-CZ" sz="1400" spc="-1" strike="noStrike">
                <a:solidFill>
                  <a:srgbClr val="336600"/>
                </a:solidFill>
                <a:latin typeface="Arial"/>
              </a:rPr>
              <a:t>(teplý, vlhký)</a:t>
            </a:r>
            <a:r>
              <a:rPr b="0" lang="cs-CZ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6600"/>
                </a:solidFill>
                <a:latin typeface="Arial"/>
              </a:rPr>
              <a:t>savany, monzunové lesy, trop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6600"/>
                </a:solidFill>
                <a:latin typeface="Arial"/>
              </a:rPr>
              <a:t>deštné l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cs-CZ" sz="2000" spc="-1" strike="noStrike">
                <a:solidFill>
                  <a:srgbClr val="cc3300"/>
                </a:solidFill>
                <a:latin typeface="Arial"/>
              </a:rPr>
              <a:t>horské a vysokohors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cc3300"/>
                </a:solidFill>
                <a:latin typeface="Arial"/>
              </a:rPr>
              <a:t>obla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134136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nebí - samostatná prá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mocí atlasu zji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ejsušší a nejdeštivější místo A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ejteplejší a nejchladnější místo A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jisti a zamysli 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e které části je největší a nejmenší množství srážek a proč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aké jsou důvody rozdílů teplot v As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nebí (záp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íky rozloze Asie je podnebí různorodé (zastoupeny všechny klimatické pásy severní polokoul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ebí  (monzuny, tropické cyklony, kontinentalita podnebí, nadmořská výška aj.) ovlivňuje společensko-ekonomickou sféru (hustota zalidnění, zemědělství, turistiku aj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getace (zápis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Asii najdeme všechny vegetační pásy. Výrazně se zde uplatňuje výšková stupňovitost (především ve velehorách) veget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zemědělství se nejvíce hodí oblast stepí a smíšených les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cennější krajiny jsou vyhlášeny za N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émem je: kácení tropického lesa, snižování rozmanitosti přírody (kulturní krajina), eroze půdy aj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ostatná práce - vege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kterém vegetačním páse žijí uvedená zvířata a rostou stro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sob, slon indický, panda velká, lední medvěd, kůň Převalský, orangutan, sob, tygr sibiřský, cedr libanonský, orchideje, lišejník, olivovník, bam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7:58:48Z</dcterms:created>
  <dc:creator>kk</dc:creator>
  <dc:description/>
  <dc:language>en-US</dc:language>
  <cp:lastModifiedBy>kk</cp:lastModifiedBy>
  <dcterms:modified xsi:type="dcterms:W3CDTF">2007-02-11T18:52:28Z</dcterms:modified>
  <cp:revision>7</cp:revision>
  <dc:subject/>
  <dc:title>Podnebí a vegetace Asie</dc:title>
</cp:coreProperties>
</file>