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9A3-46EA-4345-886F-AB942A80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D21-50F5-451B-998E-FB0E401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01B-B513-40A7-93F5-2A56F788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4AE-0118-4714-8209-CB5EBB8B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D0D-D2BF-4B5C-82C8-1EC8D084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7DB-F3C7-42B0-8937-2D0594E2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097-2A7E-4C25-84C5-3EAF891E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345-C730-41DC-95A3-A61111F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7E2-2145-4EEC-AA56-8E7C51BA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B05-EEA2-4407-A7A7-8A72253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38A-6CF3-452F-8BA3-A193B0FD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181-8BBE-43AE-B6FC-F866C21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E1D4-F0B5-4766-92A4-EB3FA5FEC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52720" y="189000"/>
            <a:ext cx="35290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vrch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16360" y="333000"/>
            <a:ext cx="5976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vyšší trvale obydlený světadíl – 96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hoř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713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ry zaujímají hlavně střed kontinentu (alpínsko-himálajské vrásnění = třetih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 14 osmitisícovek leží v Asii (z toho 11 v pohoří Himálaj – i nejvyšší hora světa Mt. Everest 8 848 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piš a doplň do mapy: Himálaj (Mt. Everest), Kavkaz, Íránská vysočina, Hindukůš, Pamír, Altaj, Tibetská náhorní plošina, Kunlun Shan, Karákóram, Ťan-Šan, Středosibiřská vysoč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2565360"/>
            <a:ext cx="292104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3200400" cy="212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810400" y="4667400"/>
            <a:ext cx="3333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p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chomořský ohnivý prstenec“ – JV a V As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iš a doplň do mapy: Ključevskaja nejvyšší asijská sopka, Fudžisan – posvátná japonská sop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44640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176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ížiny a pouš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425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ížiny leží na SZ, V a J pokrývají asi ¼ území (sever – permafrost, jih – poušt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iš a doplň do mapy: Severosibiřská nížina, Západosibiřská rovina, Turanská nížina – Karalkum a Kyzylkum, Mezopotámská n., Indoganžská n., Velká čínská n., Taklamakan, Go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5370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6:59:18Z</dcterms:created>
  <dc:creator>kk</dc:creator>
  <dc:description/>
  <dc:language>en-US</dc:language>
  <cp:lastModifiedBy>kk</cp:lastModifiedBy>
  <dcterms:modified xsi:type="dcterms:W3CDTF">2007-01-17T21:16:23Z</dcterms:modified>
  <cp:revision>5</cp:revision>
  <dc:subject/>
  <dc:title>Povrch Asie</dc:title>
</cp:coreProperties>
</file>