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F5B-E747-452E-AD42-7409E2C4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366-CF81-4399-A5E3-C79C8403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827-63EC-4781-9CE7-B8A5CF6D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EB7-D2E1-4392-B134-5BC671CE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CD0-7AF3-498B-A92C-BAD777F7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D85-531E-4B19-80C5-0A65A69E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C87-2A86-482B-A831-ADC30FCE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A4F-6997-4C66-B3B6-C61986D0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7D3-B534-4ED0-A290-9BD3D558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3A4-E664-49F7-8795-977E2C58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963-8FE3-42EC-956C-99F6473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373-3794-48CB-BE84-BE52C9C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DD39-1ADD-4EE7-AFAE-2C3696A84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cs.wikipedia.org/wiki/Asie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2500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a, rozloha, členi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619520" cy="278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4140360" cy="2840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8920" y="62564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 o Asii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D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7640" y="2297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co Polo (13. stolet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3960" y="220500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sco da Gama (1497- 14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o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terých polokoulích se rozkládá Asie (zakresli do náčrtku Země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sie sousedí 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Evropou (hranice Eurasie zakresli do mapy), Afrikou (Suezská šíje), Amerikou (Beringův průliv – 35 km), Austrálií (ostrovy JV Asie – pevninský most), Antarktidou (Indický oceá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kreslete: rovník, obratník Raka, severní polární kru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jisti souřadnice nejzašších míst pevninské As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: Čeljuskinův mys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: mys Buru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: Děžněvův mys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: mys Baba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93080" y="189000"/>
            <a:ext cx="1728720" cy="151272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98100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56720" y="189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zlo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21844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větší světadíl planety (44,4 mil. km čtvereční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rozlohy souš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% rozlohy plan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trovy a poloostrovy zabírají asi ¼ rozlo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istěte podle Atlasu přibližnou vzdálenost ve směru: sever – jih, východ – západ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istěte přes kolik časových pásem se rozkládá Asie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400680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lenit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</a:rPr>
              <a:t>map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oplň nejvýznamnější poloostrovy (skrývají se pod čísly). Asii patří největší pol. světa – Arabský (zjisti jeho rozlohu z tabule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</a:rPr>
              <a:t>map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oplň tyto ostrovy a souostrov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Severní zem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 – Tha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Novosibiřské o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 – Filipí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Wrangelův o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 – Velké Su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 – Kuri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 – Malé Su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 – Sacha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– Cej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 – Japonské o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 – Ky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iš 4 největší ostrovy Velkých S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iš 4 hlavní ostrovy Japonských ostrov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</a:rPr>
              <a:t>Mapa 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71280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7:02:46Z</dcterms:created>
  <dc:creator>kk</dc:creator>
  <dc:description/>
  <dc:language>en-US</dc:language>
  <cp:lastModifiedBy>kk</cp:lastModifiedBy>
  <dcterms:modified xsi:type="dcterms:W3CDTF">2007-01-10T07:59:24Z</dcterms:modified>
  <cp:revision>9</cp:revision>
  <dc:subject/>
  <dc:title>ASIE</dc:title>
</cp:coreProperties>
</file>