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922F-A50F-43F5-B733-DBFFEF877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26CB-053D-4B88-B584-4D1849ED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5A43-56DA-46F8-B35D-833C7A74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F7F5-9E28-4522-B48C-40E9FCF25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937F-68E1-460E-AC6E-F630874D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4A8F-FBE1-48B9-96E4-C9D6C789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C337-D5DC-4AAA-B20E-C88C2950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67FC-1253-4F57-95F7-63FD24B8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D15E-6D99-48B3-BFF0-218199B4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47B3-56F4-4084-8722-60C2128D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5475-3E24-4AF6-8B15-0CE59304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1952-A7B4-4BCF-8D00-D66103B2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EDCD-17BB-4727-B32E-A432E42CB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ÁTY PERSKÉHO ZÁLIV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hnisko napětí současného svě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storyD_main" descr=""/>
          <p:cNvPicPr/>
          <p:nvPr/>
        </p:nvPicPr>
        <p:blipFill>
          <a:blip r:embed="rId1"/>
          <a:stretch/>
        </p:blipFill>
        <p:spPr>
          <a:xfrm>
            <a:off x="4114800" y="2666880"/>
            <a:ext cx="4876920" cy="3675240"/>
          </a:xfrm>
          <a:prstGeom prst="rect">
            <a:avLst/>
          </a:prstGeom>
          <a:ln w="0">
            <a:noFill/>
          </a:ln>
        </p:spPr>
      </p:pic>
      <p:pic>
        <p:nvPicPr>
          <p:cNvPr id="44" name="mideast_oil" descr=""/>
          <p:cNvPicPr/>
          <p:nvPr/>
        </p:nvPicPr>
        <p:blipFill>
          <a:blip r:embed="rId2"/>
          <a:stretch/>
        </p:blipFill>
        <p:spPr>
          <a:xfrm>
            <a:off x="228600" y="2666880"/>
            <a:ext cx="380988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ákladní inform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rovské zásoby ropy = rychlý růst hospodářství a středem světového zájm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pí nedostatkem vody (odsolování) = malý význam zemědělstv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znamná námořní doprava (ropné terminál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nisko napětí současného svě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Oil_23.jpg_440_-1" descr=""/>
          <p:cNvPicPr/>
          <p:nvPr/>
        </p:nvPicPr>
        <p:blipFill>
          <a:blip r:embed="rId1"/>
          <a:stretch/>
        </p:blipFill>
        <p:spPr>
          <a:xfrm>
            <a:off x="304920" y="3581280"/>
            <a:ext cx="5029200" cy="3075120"/>
          </a:xfrm>
          <a:prstGeom prst="rect">
            <a:avLst/>
          </a:prstGeom>
          <a:ln w="0">
            <a:noFill/>
          </a:ln>
        </p:spPr>
      </p:pic>
      <p:pic>
        <p:nvPicPr>
          <p:cNvPr id="48" name="Oman_camel_on_dry_hillside" descr=""/>
          <p:cNvPicPr/>
          <p:nvPr/>
        </p:nvPicPr>
        <p:blipFill>
          <a:blip r:embed="rId2"/>
          <a:stretch/>
        </p:blipFill>
        <p:spPr>
          <a:xfrm>
            <a:off x="5486400" y="3368520"/>
            <a:ext cx="3505320" cy="33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ěco o ropě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č je ropa důležitá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 čemu se využívá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k se dopravuj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de jinde v Asii najdeme naleziště rop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 znamená OPE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0040" y="5527800"/>
            <a:ext cx="39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áty Perského zálivu (8 států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hrajn (Manáma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malý ostrovní stát, artézské stud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ák (Baghdád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Mezopotámie, válka (svrhnutý diktátor), Kurdská menš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án (Teherán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hornatý zemědělský rozvojový stát (podle USA patří k ose zl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Katar (Dauhá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Kuvajt (Kuvajt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rok 1990 válka s Irákem (Mina Al-Áhmadi – významný terminá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Omán (Maskat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sultaná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Saúdská Arábie (Rijád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království, největší stát oblasti s největšími zásobami ropy, poutní místa (Mekka a Madi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Spojené arabské emiráty (Abú Zabí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19:40:59Z</dcterms:created>
  <dc:creator>kk</dc:creator>
  <dc:description/>
  <dc:language>en-US</dc:language>
  <cp:lastModifiedBy>kk</cp:lastModifiedBy>
  <dcterms:modified xsi:type="dcterms:W3CDTF">2006-05-16T22:11:49Z</dcterms:modified>
  <cp:revision>3</cp:revision>
  <dc:subject/>
  <dc:title>STÁTY PERSKÉHO ZÁLIVU</dc:title>
</cp:coreProperties>
</file>