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16D-FE67-425E-8D70-CFA59FD5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483-7B8B-4467-8A71-DE24F0FE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A3B-03B0-41B8-8711-F7F14F5A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127-7207-47C0-B107-54823755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0199-60B3-4F38-93A2-E1C7C03D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424-AEB4-477A-8BF5-15F2540D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C0F-000B-4505-8DB8-5BCCFC39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991-FE25-4654-ADDC-25BBDFCD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48C-704C-43D8-A702-A17C4FD1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A09-F706-4BFC-BCEE-B44EEC6C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BCF-FD04-41E6-A0F0-FEE38F19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DCE-7214-40DD-A9D2-CA67D38D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F16B-2F01-4D85-9E88-E362D513F9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BYVATELSTVO A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http://www.davidkralik.cz/egypt/obrazky/citadela.jpg"/>
          <p:cNvPicPr/>
          <p:nvPr/>
        </p:nvPicPr>
        <p:blipFill>
          <a:blip r:embed="rId1"/>
          <a:stretch/>
        </p:blipFill>
        <p:spPr>
          <a:xfrm>
            <a:off x="1752480" y="914400"/>
            <a:ext cx="3124440" cy="3092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ttp://www.albeforum.net/Longhua%20Pagoda%2027-04-04%207.jpg"/>
          <p:cNvPicPr/>
          <p:nvPr/>
        </p:nvPicPr>
        <p:blipFill>
          <a:blip r:embed="rId2"/>
          <a:stretch/>
        </p:blipFill>
        <p:spPr>
          <a:xfrm>
            <a:off x="5181480" y="1143000"/>
            <a:ext cx="3559320" cy="533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http://upload.wikimedia.org/wikipedia/commons/thumb/b/ba/RanganathaTemple.jpg/180px-RanganathaTemple.jpg"/>
          <p:cNvPicPr/>
          <p:nvPr/>
        </p:nvPicPr>
        <p:blipFill>
          <a:blip r:embed="rId3"/>
          <a:stretch/>
        </p:blipFill>
        <p:spPr>
          <a:xfrm>
            <a:off x="228600" y="32767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svojování A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95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svojování zevnitř kontinentu (tzv. Starý svě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ébka vyspělých civilizaci (arabská, čínská, indická, mezpotámská, japonská aj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onizace – Portugalci, Angličané (Indie), Nizozemci (Indonésie), Francie (Indočín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kolonizace (po II. světové vál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http://cz.chinabroadcast.cn/mmsource/images/2004/12/09/l200412091.jpg"/>
          <p:cNvPicPr/>
          <p:nvPr/>
        </p:nvPicPr>
        <p:blipFill>
          <a:blip r:embed="rId1"/>
          <a:stretch/>
        </p:blipFill>
        <p:spPr>
          <a:xfrm>
            <a:off x="4343400" y="228600"/>
            <a:ext cx="4572000" cy="308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ttp://www.rain.org/campinternet/astronomy/img/marco_polo_route.jpg"/>
          <p:cNvPicPr/>
          <p:nvPr/>
        </p:nvPicPr>
        <p:blipFill>
          <a:blip r:embed="rId2"/>
          <a:stretch/>
        </p:blipFill>
        <p:spPr>
          <a:xfrm>
            <a:off x="4724280" y="3429000"/>
            <a:ext cx="4419720" cy="2476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ttp://www.kyrene.k12.az.us/schools/brisas/sunda/great/polo.jpg"/>
          <p:cNvPicPr/>
          <p:nvPr/>
        </p:nvPicPr>
        <p:blipFill>
          <a:blip r:embed="rId3"/>
          <a:stretch/>
        </p:blipFill>
        <p:spPr>
          <a:xfrm>
            <a:off x="3352680" y="4648320"/>
            <a:ext cx="15033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Obyvatelstvo současn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ije zde 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 obyvatel Zem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ůznorod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as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převažuje žlutá rasa (mongoloidní) + bílá (indoevropané) a míšen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áboženstv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křesťanství, islám, hinduismus, buddhismus aj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ruhů písm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arabské písmo, čínské znakové, hebrejština, azbuka, latin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lidně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nerovnoměrné (průměr 70 ob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až 1100 ob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blémy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soký přírůstek (Čína, Indie), obrovské metropole (Shanghai, Tókjó, Soul aj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793800" y="3292560"/>
            <a:ext cx="7558200" cy="457200"/>
            <a:chOff x="793800" y="3292560"/>
            <a:chExt cx="7558200" cy="457200"/>
          </a:xfrm>
        </p:grpSpPr>
        <p:sp>
          <p:nvSpPr>
            <p:cNvPr id="53" name="Rectangle 5"/>
            <p:cNvSpPr/>
            <p:nvPr/>
          </p:nvSpPr>
          <p:spPr>
            <a:xfrm>
              <a:off x="793800" y="3292560"/>
              <a:ext cx="7558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793800" y="3292560"/>
              <a:ext cx="755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Picture 11" descr="http://www.kiku.com/electric_samurai/virtual_mongol/image/p_10.jpg"/>
          <p:cNvPicPr/>
          <p:nvPr/>
        </p:nvPicPr>
        <p:blipFill>
          <a:blip r:embed="rId1"/>
          <a:stretch/>
        </p:blipFill>
        <p:spPr>
          <a:xfrm>
            <a:off x="4419720" y="609480"/>
            <a:ext cx="4572000" cy="306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www.hunter.cuny.edu/classics/japanese/images/Tokyo%5B1%5D.21.jpg"/>
          <p:cNvPicPr/>
          <p:nvPr/>
        </p:nvPicPr>
        <p:blipFill>
          <a:blip r:embed="rId2"/>
          <a:stretch/>
        </p:blipFill>
        <p:spPr>
          <a:xfrm>
            <a:off x="4572000" y="3659040"/>
            <a:ext cx="4267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Sídla – práce pomocí atla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98100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Pomocí atlasu zjisti co nejvíce informací o městě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nila (příkl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. město Filip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íce než 5 milionů obyva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řadnice 14˚s.š., 122˚v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asové pásmo +7 hod. od SEČ, +8 hod. G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trov Luzon (východní část) při pobřeží Jihočínského moř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ropický pás (léto 27,9˚C, zima 25,4˚C) = rozdíl 2,5˚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izika: tajfuny, zemětřes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hospodářským centrem kontinentálního význa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pravní spojení: přístav, letiště, má metro, hlavní dálnice spojuje sever a jih ostr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jímavost: Manila je součástí aglomerace (nad 10 mil. obyvatel) = Manila, Quezon City, Caiooc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Hledej na mapách str.: 14-15, 18-19, 25, 38-39, 86, 88, 97 a jiný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kio (samostatně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22:25:55Z</dcterms:created>
  <dc:creator>kk</dc:creator>
  <dc:description/>
  <dc:language>en-US</dc:language>
  <cp:lastModifiedBy>Uživatel</cp:lastModifiedBy>
  <dcterms:modified xsi:type="dcterms:W3CDTF">2014-03-29T07:58:12Z</dcterms:modified>
  <cp:revision>4</cp:revision>
  <dc:subject/>
  <dc:title>OBYVATELSTVO ASIE</dc:title>
</cp:coreProperties>
</file>