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940C-1649-4842-9719-C9EC00FF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AF28-D210-404C-9B0A-F28C63AD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723F-6476-4C32-83D6-6A24B08E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6F9E-889C-4D39-B050-BFDF83AC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B554-4956-4BDD-B892-7689175B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D64D-A56B-4136-B1E2-EC310562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7844-B3CE-4E6B-8417-3A107036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FC93-ACDC-49C9-BB57-B3D34C4C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F2D2-41E4-40A7-8809-55F77565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9A37-DCD7-4ED5-8364-3D29A4D6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15A4-8D13-4CA2-824B-A88A39AC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D4F4-E071-4424-A75B-9A65E160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3A0F-B003-4707-B234-D15177172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IŽNÍ AS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56386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cký subkonti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outh_asia" descr=""/>
          <p:cNvPicPr/>
          <p:nvPr/>
        </p:nvPicPr>
        <p:blipFill>
          <a:blip r:embed="rId1"/>
          <a:stretch/>
        </p:blipFill>
        <p:spPr>
          <a:xfrm>
            <a:off x="1523880" y="0"/>
            <a:ext cx="541044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. Přírodní podmínk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oloostrov na kterém  se rozkládá Indický subkontin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ohoří lemující sever Indického subkontinentu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Moře a záliv omývající Indický subkontin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Ostrov na jihu Indického subkontinentu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Řeka pramenící do Arabského moř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Řeky pramenící do Bengálského zálivu, které tvoří největší deltu na světě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Významná nížina, která je součástí Indického subkontinentu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oušť na severozápadě Indického subkontinentu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Monzunové podnebí (Čerápuňdží)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tropické cyklon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114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maledivy_destinacie" descr=""/>
          <p:cNvPicPr/>
          <p:nvPr/>
        </p:nvPicPr>
        <p:blipFill>
          <a:blip r:embed="rId1"/>
          <a:stretch/>
        </p:blipFill>
        <p:spPr>
          <a:xfrm>
            <a:off x="4876920" y="3733920"/>
            <a:ext cx="407664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5335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. Socioekonomické podmínk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47242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šechny tyto státy jsou zemědělské rozvojové, s minimálním rozvojem průmysl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zemědělství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ýže, čaj, luštěniny (pracuje zde většina obyvatel), sk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spodářství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, těž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yvatelstvo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sté osídlení, žijí na vesnici, rasové složení (bílá, černá, žlutá), jazyky indoevropské + angličtina, náboženství – hinduismus (kasty), islá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IZda3ac_tea" descr=""/>
          <p:cNvPicPr/>
          <p:nvPr/>
        </p:nvPicPr>
        <p:blipFill>
          <a:blip r:embed="rId1"/>
          <a:stretch/>
        </p:blipFill>
        <p:spPr>
          <a:xfrm>
            <a:off x="4572000" y="533520"/>
            <a:ext cx="4572000" cy="3278160"/>
          </a:xfrm>
          <a:prstGeom prst="rect">
            <a:avLst/>
          </a:prstGeom>
          <a:ln w="0">
            <a:noFill/>
          </a:ln>
        </p:spPr>
      </p:pic>
      <p:pic>
        <p:nvPicPr>
          <p:cNvPr id="51" name="Thailand1068-AsianElephant-AtWork" descr=""/>
          <p:cNvPicPr/>
          <p:nvPr/>
        </p:nvPicPr>
        <p:blipFill>
          <a:blip r:embed="rId2"/>
          <a:stretch/>
        </p:blipFill>
        <p:spPr>
          <a:xfrm>
            <a:off x="4572000" y="3886200"/>
            <a:ext cx="4572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I. Stá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plň hlavní města těchto států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e, Pákistán, Bangladéš, Nepál, Bhútán, Srí Lanka, Malediv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21:03:38Z</dcterms:created>
  <dc:creator>kk</dc:creator>
  <dc:description/>
  <dc:language>en-US</dc:language>
  <cp:lastModifiedBy>kk</cp:lastModifiedBy>
  <dcterms:modified xsi:type="dcterms:W3CDTF">2006-05-01T21:25:19Z</dcterms:modified>
  <cp:revision>5</cp:revision>
  <dc:subject/>
  <dc:title>JIŽNÍ ASIE</dc:title>
</cp:coreProperties>
</file>