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482-8C39-47C0-83EF-B878A7D9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017-29A5-4A20-ADC1-10A3F40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D08-F545-4C4C-B0C8-2E8855CA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20E-A5FD-4420-B9F5-9AEC7CB8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5C8-66A0-423D-85BA-D4B9AE35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766-B645-4D07-8EC7-8FFB978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684-D974-476F-92FE-14EA05CB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2CA-39B8-491F-8995-BC1CE65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EBD-FFAF-4361-A640-1058B82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B3C-E888-494C-B96D-E9AC0B7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912-BA6E-47A4-B366-5903C71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DBA-F073-49D6-AF2E-65998D0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B627-4C9A-4F37-B995-3F4ECF04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2,7,&#344;e&#353;en&#237; samostatn&#233; pr&#225;c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1,6,Samostatn&#225; pr&#225;ce (&#345;e&#353;en&#237;)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HOZÁPADNÍ A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lám, ropa, oblast napě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olitical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548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ětší poloostrov  světa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Evropě se přibližuje další poloostrov……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 Středozemním moři leží ostrov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Atlantickému oceánu patří dvě moře…….a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Indickému oceánu patří rovněž dvě moře……a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uboko do pevniny zabíhá záliv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nižším místem v Asii (- 400 m) je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znamnou nížinou je. 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ékají ji dvě řeky……….a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rov Malá Asie vyplňuje pohoří……. a zemi Irán pohoří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537516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Z Asie leží v subtropickém pásu (poušť, středomořská vegetac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odtoké oblasti (vád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intenzivní závlahové) středomoří = citrusy, Mezopotámská nížina = obiloviny, oázy = datle, horské oblasti = pastvi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pné státy (největší zásoby na světě) x zaostalé (Jemen, Omán) a vyspělé (Izrael, Kyp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prav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ámořní doprava (ropné terminá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572000" cy="302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. Obyvatelst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rodávné civilizace (Mezopotámie, Řím, Byzantská říše aj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rovnoměrné a řídké osídlení, vysoká urbaniz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abové (europoidní), náboženství = Islám (+ křesťané, Judaism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lémy – nedostatek vody, terorismus, rasové a náboženské nepokoje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34480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. Stá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WAsia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54824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15400" y="1336680"/>
            <a:ext cx="373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Z Asie zahrnuje 15 států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bském poloostrově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á Asie, Irán a ostrov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pr. Takže které to js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ostatná práce (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řešení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plň chybějící informace (použij učebnici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 celé oblasti převažují muslimové, výjimku tvoří pouze stát……., kde převládá…… náboženstv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místění obyvatel v JZ Asii ovlivňují dva činitelé:……a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více ropy na světě těží………(…..mil.tun/r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táty mají výkonné hospodářství i bez těžby ropy……….a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oblast je typická svými konflikty, které znáš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rozšířenějším náboženstvím je……., jak se nazývá jeho zakladatel……., kolik věřících má v současnosti……. (?. místo), co je to Korán…..a co je Šári´a…… a co ramadán 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Řešení samostatné prá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lň chybějící informace (použij učebnici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celé oblasti převažují muslimové, výjimku tvoří pouze stát IZRAEL, kde převládá ŽIDOVSKÉ  náboženstv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místění obyvatel v JZ Asii ovlivňují dva činitelé:PŘÍRODNÍ PODMÍNKY a TĚŽBA  A ZPRACOVÁNÍ RO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íce ropy na světě těží SAUDSKÁ ARÁBIE (420 mil.tun/r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é státy mají výkonné hospodářství i bez těžby ropy: IZRAEL a KY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to oblast je typická svými konflikty, které znáš: Izrael x Palestina, Irák x Irán, Irák x Kuvajt, Irák x USA a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rozšířenějším náboženstvím je ISLÁM, jak se nazývá jeho zakladatel MOHAMED, kolik věřících má v současnosti 700 MIL. (2. místo), co je to Korán – SVATÁ KNIHA a co je Šári´a – ZÁKON S PRAVIDLY CHOVÁNÍ a co ramadán – POSTNÍ MĚSÍ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20:49:17Z</dcterms:created>
  <dc:creator>kk</dc:creator>
  <dc:description/>
  <dc:language>en-US</dc:language>
  <cp:lastModifiedBy>kk</cp:lastModifiedBy>
  <dcterms:modified xsi:type="dcterms:W3CDTF">2007-05-14T19:30:47Z</dcterms:modified>
  <cp:revision>13</cp:revision>
  <dc:subject/>
  <dc:title>JIHOZÁPADNÍ ASIE</dc:title>
</cp:coreProperties>
</file>