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4A9-D561-447E-ADE9-DF950F79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05C-6CFA-4FBC-B555-4DE4B5C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5C6-407D-4310-A71F-DB60188F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541-B924-4E5D-A4BE-2BE64441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6ED-E8BD-4AB7-8A6D-5F18A63C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F14-40E7-4C98-8730-16E7003E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69B-6DF0-49AB-920D-D77FDC15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155-39F8-4F02-962B-01D85EC3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262-73A6-46FF-9A73-56CB45D4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710-3F1F-4275-94A1-3524C72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424-FB80-4DEE-8F08-7ED0FC1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B4F-1C4A-463F-8A04-BA0AF1F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824-D597-4F66-90C7-41055BD8F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IHOVÝCHODNÍ ASI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gkorWat" descr=""/>
          <p:cNvPicPr/>
          <p:nvPr/>
        </p:nvPicPr>
        <p:blipFill>
          <a:blip r:embed="rId1"/>
          <a:stretch/>
        </p:blipFill>
        <p:spPr>
          <a:xfrm>
            <a:off x="4648320" y="68580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43" name="map_sea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886200" cy="2798640"/>
          </a:xfrm>
          <a:prstGeom prst="rect">
            <a:avLst/>
          </a:prstGeom>
          <a:ln w="0">
            <a:noFill/>
          </a:ln>
        </p:spPr>
      </p:pic>
      <p:pic>
        <p:nvPicPr>
          <p:cNvPr id="44" name="IMG_4741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586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Přírodní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vninská čás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Zadní Indie, Malajský pol. 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ostrovní čás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Velké Sundy (Borneo, Sumatra, Jáva, Celebes), Malé Sundy a Filipínské souostrov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Řek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Mekong a Irava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odneb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tropick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egeta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tropický deštný les, monzunové lesy, sav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jungleview" descr="Jungle View Luang Prabang"/>
          <p:cNvPicPr/>
          <p:nvPr/>
        </p:nvPicPr>
        <p:blipFill>
          <a:blip r:embed="rId1"/>
          <a:stretch/>
        </p:blipFill>
        <p:spPr>
          <a:xfrm>
            <a:off x="152280" y="350532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mekongboats" descr="Mekong Boats Luang Prabang"/>
          <p:cNvPicPr/>
          <p:nvPr/>
        </p:nvPicPr>
        <p:blipFill>
          <a:blip r:embed="rId2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Socioekonomické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zdílná hospodářská úrove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asijští tygři, zemědělské (zaostal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rýže, tropické plody, kaučuk, těžba dřeva a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ěžb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ropa, zemní plyn, cín, železná ru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estré národnostní, rasové i náboženské složení(B, H, Kř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kl_skyline" descr="Skyline Malaysia"/>
          <p:cNvPicPr/>
          <p:nvPr/>
        </p:nvPicPr>
        <p:blipFill>
          <a:blip r:embed="rId1"/>
          <a:stretch/>
        </p:blipFill>
        <p:spPr>
          <a:xfrm>
            <a:off x="15228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indonesie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60972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Stá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190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onésie (Jakart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trovní a největší stát JV Asie a 3. nejlidnatější stát As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ěžební (cín, ropa, zemní plyn (OPEC)), chemický, textilní, potravinářsk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é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opečná činnost, přelidnění, kácení tropického l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838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 následujících zemí doplň hlavní město a jednu zajímav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Barma (Myanma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Brun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Filipí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Kambodž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La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ietn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ýchodní Tim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ingapur (viz. asijští tygř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hajsko (viz. asijští tygř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Malajsie (viz. asijští tygř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858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4:22:50Z</dcterms:created>
  <dc:creator>kk</dc:creator>
  <dc:description/>
  <dc:language>en-US</dc:language>
  <cp:lastModifiedBy>kk</cp:lastModifiedBy>
  <dcterms:modified xsi:type="dcterms:W3CDTF">2006-04-13T15:15:47Z</dcterms:modified>
  <cp:revision>4</cp:revision>
  <dc:subject/>
  <dc:title>JIHOVÝCHODNÍ ASIE</dc:title>
</cp:coreProperties>
</file>