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C62F-16C4-4DAF-B344-9FABBD1B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F69F-09E5-45D5-8182-ADCAAE57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A69-9B75-4AA3-96A5-3FFB63BA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222-16A4-4F3B-B1A2-F3B765E7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8E6-8894-4991-A848-1007D844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5904-B789-44DF-A3BB-C091C6BA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88AE-AF18-4370-8ECF-94630D57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190-06D2-4D74-8787-E5F228F3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84D-4C4C-4FAA-9E9C-8C72EAF0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F361-5349-4FB3-AC4A-9FB5E6B9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1600-D3D7-46AD-A8A0-3DC3CD40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9EA6-CA57-4BE8-8BD5-3736F079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5202-C18E-46F7-AABD-A4D126D2A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hyperlink" Target="http://www.japonsko.tnet.cz/sony.htm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www.japonsko.tnet.cz/nikon.htm" TargetMode="External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japonsko.tnet.cz/informace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PONS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MĚ VYCHÁZEJÍCÍHO SLU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japanflag" descr=""/>
          <p:cNvPicPr/>
          <p:nvPr/>
        </p:nvPicPr>
        <p:blipFill>
          <a:blip r:embed="rId1"/>
          <a:stretch/>
        </p:blipFill>
        <p:spPr>
          <a:xfrm>
            <a:off x="6629400" y="0"/>
            <a:ext cx="2133720" cy="1488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81680" y="152280"/>
            <a:ext cx="1828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kimono" descr="průvod v kimonech"/>
          <p:cNvPicPr/>
          <p:nvPr/>
        </p:nvPicPr>
        <p:blipFill>
          <a:blip r:embed="rId2"/>
          <a:stretch/>
        </p:blipFill>
        <p:spPr>
          <a:xfrm>
            <a:off x="990720" y="4267080"/>
            <a:ext cx="3429000" cy="2332080"/>
          </a:xfrm>
          <a:prstGeom prst="rect">
            <a:avLst/>
          </a:prstGeom>
          <a:ln w="0">
            <a:noFill/>
          </a:ln>
        </p:spPr>
      </p:pic>
      <p:pic>
        <p:nvPicPr>
          <p:cNvPr id="46" name="daiso" descr="© Fotografie z materiálů Tokio National Museum."/>
          <p:cNvPicPr/>
          <p:nvPr/>
        </p:nvPicPr>
        <p:blipFill>
          <a:blip r:embed="rId3"/>
          <a:stretch/>
        </p:blipFill>
        <p:spPr>
          <a:xfrm>
            <a:off x="5105520" y="1981080"/>
            <a:ext cx="3429000" cy="1782720"/>
          </a:xfrm>
          <a:prstGeom prst="rect">
            <a:avLst/>
          </a:prstGeom>
          <a:ln w="0">
            <a:noFill/>
          </a:ln>
        </p:spPr>
      </p:pic>
      <p:pic>
        <p:nvPicPr>
          <p:cNvPr id="47" name="hrad6" descr="hrad Macumoto"/>
          <p:cNvPicPr/>
          <p:nvPr/>
        </p:nvPicPr>
        <p:blipFill>
          <a:blip r:embed="rId4"/>
          <a:stretch/>
        </p:blipFill>
        <p:spPr>
          <a:xfrm>
            <a:off x="5486400" y="3886200"/>
            <a:ext cx="2544840" cy="2629080"/>
          </a:xfrm>
          <a:prstGeom prst="rect">
            <a:avLst/>
          </a:prstGeom>
          <a:ln w="0">
            <a:noFill/>
          </a:ln>
        </p:spPr>
      </p:pic>
      <p:pic>
        <p:nvPicPr>
          <p:cNvPr id="48" name="azalea" descr="Azaela"/>
          <p:cNvPicPr/>
          <p:nvPr/>
        </p:nvPicPr>
        <p:blipFill>
          <a:blip r:embed="rId5"/>
          <a:stretch/>
        </p:blipFill>
        <p:spPr>
          <a:xfrm>
            <a:off x="1371600" y="1905120"/>
            <a:ext cx="24004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yři velké ostrovy……………..doplňuje souostroví Rjúkú a dalších 3500 ostrovů sopečného původu. Nejvyšší sopka je posvátná hora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dnebí je monzunové, oceánské, ovlivněné protáhlým územím ostrovů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udzi" descr="Pohled na majestátnou horu Fudži."/>
          <p:cNvPicPr/>
          <p:nvPr/>
        </p:nvPicPr>
        <p:blipFill>
          <a:blip r:embed="rId1"/>
          <a:stretch/>
        </p:blipFill>
        <p:spPr>
          <a:xfrm>
            <a:off x="380880" y="3886200"/>
            <a:ext cx="480060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most" descr="Most spojující ostrovy Honšú a Šikoku o délce 7 016 metrů"/>
          <p:cNvPicPr/>
          <p:nvPr/>
        </p:nvPicPr>
        <p:blipFill>
          <a:blip r:embed="rId2"/>
          <a:stretch/>
        </p:blipFill>
        <p:spPr>
          <a:xfrm>
            <a:off x="5715000" y="3471840"/>
            <a:ext cx="31240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PODÁŘSTV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Zemědělstv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intenzivní, soběstačné (rýže, zelenina, rybolov, drůbe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ůmys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hybí nerosty (dovoz), proto se průmysl soustřeďuje na pobřeží. Převažují náročná odvětví (elektrotechnika, výroba automobilů a lodí, optiky), chemick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hondalogo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1600200" cy="938160"/>
          </a:xfrm>
          <a:prstGeom prst="rect">
            <a:avLst/>
          </a:prstGeom>
          <a:ln w="0">
            <a:noFill/>
          </a:ln>
        </p:spPr>
      </p:pic>
      <p:pic>
        <p:nvPicPr>
          <p:cNvPr id="55" name="mazdalogo" descr=""/>
          <p:cNvPicPr/>
          <p:nvPr/>
        </p:nvPicPr>
        <p:blipFill>
          <a:blip r:embed="rId2"/>
          <a:stretch/>
        </p:blipFill>
        <p:spPr>
          <a:xfrm>
            <a:off x="6019920" y="5943600"/>
            <a:ext cx="2228760" cy="639720"/>
          </a:xfrm>
          <a:prstGeom prst="rect">
            <a:avLst/>
          </a:prstGeom>
          <a:ln w="0">
            <a:noFill/>
          </a:ln>
        </p:spPr>
      </p:pic>
      <p:pic>
        <p:nvPicPr>
          <p:cNvPr id="56" name="mitsubishi" descr=""/>
          <p:cNvPicPr/>
          <p:nvPr/>
        </p:nvPicPr>
        <p:blipFill>
          <a:blip r:embed="rId3"/>
          <a:stretch/>
        </p:blipFill>
        <p:spPr>
          <a:xfrm>
            <a:off x="3581280" y="4952880"/>
            <a:ext cx="1521000" cy="1635120"/>
          </a:xfrm>
          <a:prstGeom prst="rect">
            <a:avLst/>
          </a:prstGeom>
          <a:ln w="0">
            <a:noFill/>
          </a:ln>
        </p:spPr>
      </p:pic>
      <p:pic>
        <p:nvPicPr>
          <p:cNvPr id="57" name="toyotalogo" descr=""/>
          <p:cNvPicPr/>
          <p:nvPr/>
        </p:nvPicPr>
        <p:blipFill>
          <a:blip r:embed="rId4"/>
          <a:stretch/>
        </p:blipFill>
        <p:spPr>
          <a:xfrm>
            <a:off x="5943600" y="4267080"/>
            <a:ext cx="1954080" cy="343080"/>
          </a:xfrm>
          <a:prstGeom prst="rect">
            <a:avLst/>
          </a:prstGeom>
          <a:ln w="0">
            <a:noFill/>
          </a:ln>
        </p:spPr>
      </p:pic>
      <p:pic>
        <p:nvPicPr>
          <p:cNvPr id="58" name="sonylogo" descr="logo firmy Son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09680" y="4419720"/>
            <a:ext cx="2183040" cy="446040"/>
          </a:xfrm>
          <a:prstGeom prst="rect">
            <a:avLst/>
          </a:prstGeom>
          <a:ln w="0">
            <a:noFill/>
          </a:ln>
        </p:spPr>
      </p:pic>
      <p:pic>
        <p:nvPicPr>
          <p:cNvPr id="59" name="nikon" descr="logo firmy Niko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24480" y="5257800"/>
            <a:ext cx="1268640" cy="388800"/>
          </a:xfrm>
          <a:prstGeom prst="rect">
            <a:avLst/>
          </a:prstGeom>
          <a:ln w="0">
            <a:noFill/>
          </a:ln>
        </p:spPr>
      </p:pic>
      <p:pic>
        <p:nvPicPr>
          <p:cNvPr id="60" name="panasoniclogo" descr="logo firmy Panasonic"/>
          <p:cNvPicPr/>
          <p:nvPr/>
        </p:nvPicPr>
        <p:blipFill>
          <a:blip r:embed="rId9"/>
          <a:stretch/>
        </p:blipFill>
        <p:spPr>
          <a:xfrm>
            <a:off x="380880" y="5684760"/>
            <a:ext cx="262908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YVATELST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125 mil. obyvatel s hustotou zalidnění 330 ob.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0" lang="cs-CZ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 75% žije ve městech (vysoká urbanizace) a tvoří jej 99% Japonců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egapolis – Tókjó, Kawasaki, Jokohama aj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strovy osídleny již před 10 tis. lety. Z tu dobu se vyvinula výrazná kultura (buddhismus, šintoismus, bojová umění, písmo, kalendář, jakuza atd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tiketa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2000520" cy="2666880"/>
          </a:xfrm>
          <a:prstGeom prst="rect">
            <a:avLst/>
          </a:prstGeom>
          <a:ln w="0">
            <a:noFill/>
          </a:ln>
        </p:spPr>
      </p:pic>
      <p:pic>
        <p:nvPicPr>
          <p:cNvPr id="64" name="osaka_doprava" descr="pohled na oblast Niši Umeda"/>
          <p:cNvPicPr/>
          <p:nvPr/>
        </p:nvPicPr>
        <p:blipFill>
          <a:blip r:embed="rId2"/>
          <a:stretch/>
        </p:blipFill>
        <p:spPr>
          <a:xfrm>
            <a:off x="6324480" y="3352680"/>
            <a:ext cx="2400480" cy="3353040"/>
          </a:xfrm>
          <a:prstGeom prst="rect">
            <a:avLst/>
          </a:prstGeom>
          <a:ln w="0">
            <a:noFill/>
          </a:ln>
        </p:spPr>
      </p:pic>
      <p:pic>
        <p:nvPicPr>
          <p:cNvPr id="65" name="sintosici" descr="V šintóistické svatyni v době svátku Šičigosan"/>
          <p:cNvPicPr/>
          <p:nvPr/>
        </p:nvPicPr>
        <p:blipFill>
          <a:blip r:embed="rId3"/>
          <a:stretch/>
        </p:blipFill>
        <p:spPr>
          <a:xfrm>
            <a:off x="3276720" y="4191120"/>
            <a:ext cx="281916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380880"/>
            <a:ext cx="6172200" cy="36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Krysa (Ne)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1960 1972 1984 1996 2008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Buvol (Uši)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1961 1973 1985 1997 2009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Tygr (Tora)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1962 1974 1986 1998 2010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Králík (U)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1963 1975 1987 1999 2011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Drak (Tacu)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1964 1976 1988 2000 2012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Had (Mi)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1965 1977 1989 2001 2013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Kůň (Uma)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1966 1978 1990 2002 2014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Ovce (Bicudži)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1967 1979 1991 2003 2015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Opice (Saru)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1968 1980 1992 2004 2016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Kohout (Tori)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1969 1981 1993 2005 2017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Pes (Inu)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1970 1982 1994 2006 2018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Kanec (I)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1971 1983 1995 2007 201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4495680"/>
            <a:ext cx="5943600" cy="18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Konničiwa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– dobrý den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Ohajógozaimasu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- dobré ráno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Konbanwa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- dobrý večer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ajónara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- na shledanou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Dewamata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- ahoj (při loučení) 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617220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Více o Japonsku z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9:01:36Z</dcterms:created>
  <dc:creator>kk</dc:creator>
  <dc:description/>
  <dc:language>en-US</dc:language>
  <cp:lastModifiedBy>kk</cp:lastModifiedBy>
  <dcterms:modified xsi:type="dcterms:W3CDTF">2006-04-03T19:24:35Z</dcterms:modified>
  <cp:revision>3</cp:revision>
  <dc:subject/>
  <dc:title>JAPONSKO</dc:title>
</cp:coreProperties>
</file>