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3E3F-B0D9-46EC-A21A-15B5BB84D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5BD0-5EF6-4EEB-8DA5-DB6C173C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B14B-7246-409D-824F-3C3E8F92D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2B95-9512-4B00-9918-2CCE72D1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4404-B29F-4F12-98E7-DA9CEBAF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1A22-1C35-41E4-AAED-7912DC5C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1779-5C11-49CB-BC2B-77FCC6E2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ECBB-CB68-4183-B391-88F0CAA1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9644-BB90-4341-8552-1678863F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C886-FEBA-4065-824F-882F8CF6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14D6-B62E-4CCD-9C7B-4B161091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DEBF-67C8-4092-9EB6-389C55BE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5CF0-3737-48D9-A3DF-DAB8F6299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cs.wikipedia.org/wiki/Indie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NDIE – Nai Dill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584520" cy="2395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4222800" cy="4537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5680" y="601992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Více o Indii z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01320" y="4191120"/>
            <a:ext cx="38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nejlidnatější zem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4800600"/>
            <a:ext cx="41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nejrozlehlejší zem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ěj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arappská civilizace (3000 př.nl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9. stol. – kolonie V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947 – nezávislost (Mahatma Gandh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dělení Indie (západní Pákistán a východní Pákistán – později Bangladéš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180px-Gandhi_studio_1931" descr=""/>
          <p:cNvPicPr/>
          <p:nvPr/>
        </p:nvPicPr>
        <p:blipFill>
          <a:blip r:embed="rId1"/>
          <a:stretch/>
        </p:blipFill>
        <p:spPr>
          <a:xfrm>
            <a:off x="5943600" y="3276720"/>
            <a:ext cx="2381400" cy="3200400"/>
          </a:xfrm>
          <a:prstGeom prst="rect">
            <a:avLst/>
          </a:prstGeom>
          <a:ln w="0">
            <a:noFill/>
          </a:ln>
        </p:spPr>
      </p:pic>
      <p:pic>
        <p:nvPicPr>
          <p:cNvPr id="50" name="m-india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403848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spodářstv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výkonné zemědělství s velkým významem (skot nevyužíván – hinduismu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modernější průmyslové výrobky (kosmonautika, jaderný průmysl) x řemeslná a ruční výrob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ůmyslová střediska = přístavy (Kalkata, Madrás, Mumba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India" descr=""/>
          <p:cNvPicPr/>
          <p:nvPr/>
        </p:nvPicPr>
        <p:blipFill>
          <a:blip r:embed="rId1"/>
          <a:stretch/>
        </p:blipFill>
        <p:spPr>
          <a:xfrm>
            <a:off x="266760" y="2971800"/>
            <a:ext cx="2778120" cy="3695760"/>
          </a:xfrm>
          <a:prstGeom prst="rect">
            <a:avLst/>
          </a:prstGeom>
          <a:ln w="0">
            <a:noFill/>
          </a:ln>
        </p:spPr>
      </p:pic>
      <p:pic>
        <p:nvPicPr>
          <p:cNvPr id="54" name="india_facilities" descr=""/>
          <p:cNvPicPr/>
          <p:nvPr/>
        </p:nvPicPr>
        <p:blipFill>
          <a:blip r:embed="rId2"/>
          <a:stretch/>
        </p:blipFill>
        <p:spPr>
          <a:xfrm>
            <a:off x="6172200" y="3124080"/>
            <a:ext cx="2828880" cy="3426120"/>
          </a:xfrm>
          <a:prstGeom prst="rect">
            <a:avLst/>
          </a:prstGeom>
          <a:ln w="0">
            <a:noFill/>
          </a:ln>
        </p:spPr>
      </p:pic>
      <p:pic>
        <p:nvPicPr>
          <p:cNvPr id="55" name="250px-Agni-II_missile_(Republic_Day_Parade_2004)" descr=""/>
          <p:cNvPicPr/>
          <p:nvPr/>
        </p:nvPicPr>
        <p:blipFill>
          <a:blip r:embed="rId3"/>
          <a:stretch/>
        </p:blipFill>
        <p:spPr>
          <a:xfrm>
            <a:off x="3048120" y="3962520"/>
            <a:ext cx="30477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yvatelst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ční exploze (2. nejlidnatější země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% žije na vesn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áboženství (kas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flikty (Kašmír, nábožensk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opulatio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3809880" cy="2286000"/>
          </a:xfrm>
          <a:prstGeom prst="rect">
            <a:avLst/>
          </a:prstGeom>
          <a:ln w="0">
            <a:noFill/>
          </a:ln>
        </p:spPr>
      </p:pic>
      <p:pic>
        <p:nvPicPr>
          <p:cNvPr id="59" name="39_10C" descr=""/>
          <p:cNvPicPr/>
          <p:nvPr/>
        </p:nvPicPr>
        <p:blipFill>
          <a:blip r:embed="rId2"/>
          <a:stretch/>
        </p:blipFill>
        <p:spPr>
          <a:xfrm>
            <a:off x="4495680" y="3505320"/>
            <a:ext cx="4264200" cy="2859120"/>
          </a:xfrm>
          <a:prstGeom prst="rect">
            <a:avLst/>
          </a:prstGeom>
          <a:ln w="0">
            <a:noFill/>
          </a:ln>
        </p:spPr>
      </p:pic>
      <p:pic>
        <p:nvPicPr>
          <p:cNvPr id="60" name="21pic2" descr=""/>
          <p:cNvPicPr/>
          <p:nvPr/>
        </p:nvPicPr>
        <p:blipFill>
          <a:blip r:embed="rId3"/>
          <a:stretch/>
        </p:blipFill>
        <p:spPr>
          <a:xfrm>
            <a:off x="6781680" y="228600"/>
            <a:ext cx="21304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19:45:49Z</dcterms:created>
  <dc:creator>Silva</dc:creator>
  <dc:description/>
  <dc:language>en-US</dc:language>
  <cp:lastModifiedBy>kk</cp:lastModifiedBy>
  <dcterms:modified xsi:type="dcterms:W3CDTF">2006-05-08T16:26:53Z</dcterms:modified>
  <cp:revision>4</cp:revision>
  <dc:subject/>
  <dc:title>INDIE</dc:title>
</cp:coreProperties>
</file>