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2295-D484-45E5-AC40-427DCE6C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7F82-A21C-4794-9942-36AD18B9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98F-4555-477C-97FE-4341D86E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FE7-C987-465E-B2E9-0B7C393D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3F35-F812-4404-AE86-218679E3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234-0AE4-4B71-A57A-4D958AD7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124-20BB-4892-93BF-053637D5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767-9EC5-40DC-AB5D-0D0C42B7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EE20-453E-4AFE-8626-6ECECFB5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D11-FFD0-466A-8151-7A0BEC05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3A9-C364-4774-B64A-9F154DE8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FF07-7961-473D-ABA6-2B360C74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9A7A-96D1-434C-8037-A33D07DDF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podářství a doprava A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Hongkong_view1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96040" cy="3371760"/>
          </a:xfrm>
          <a:prstGeom prst="rect">
            <a:avLst/>
          </a:prstGeom>
          <a:ln w="0">
            <a:noFill/>
          </a:ln>
        </p:spPr>
      </p:pic>
      <p:pic>
        <p:nvPicPr>
          <p:cNvPr id="43" name="1village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 Hospodářstv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jvyspělejší stá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Japons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lí draci (Asijští tygři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Korea, Taiwan, Malajsie a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jpočetnější státy svět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Čína, In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pní gigant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Kuvajt, Saúdská Aráb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Zemědělské stá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Vietnam, La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jchudší státy svět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KLDR, Afghánist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45_v" descr=""/>
          <p:cNvPicPr/>
          <p:nvPr/>
        </p:nvPicPr>
        <p:blipFill>
          <a:blip r:embed="rId1"/>
          <a:stretch/>
        </p:blipFill>
        <p:spPr>
          <a:xfrm>
            <a:off x="4876920" y="3911760"/>
            <a:ext cx="4267080" cy="2946240"/>
          </a:xfrm>
          <a:prstGeom prst="rect">
            <a:avLst/>
          </a:prstGeom>
          <a:ln w="0">
            <a:noFill/>
          </a:ln>
        </p:spPr>
      </p:pic>
      <p:pic>
        <p:nvPicPr>
          <p:cNvPr id="47" name="robot_factory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365760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. Dopr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ostalá (kola, povozy) x nejmodernější (rychlovlaky, letecké terminá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Námoř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největší přístavy světa Kóbe, Nagoja, Singapore + ropné příst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Říč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Chang Jang, Mekong, G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eck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její význam neustále stoupá (Tókj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Vlakov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rychlovlaky (Šinkanzen) TRAM a 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ujisan" descr=""/>
          <p:cNvPicPr/>
          <p:nvPr/>
        </p:nvPicPr>
        <p:blipFill>
          <a:blip r:embed="rId1"/>
          <a:stretch/>
        </p:blipFill>
        <p:spPr>
          <a:xfrm>
            <a:off x="4724280" y="3352680"/>
            <a:ext cx="4419720" cy="3299040"/>
          </a:xfrm>
          <a:prstGeom prst="rect">
            <a:avLst/>
          </a:prstGeom>
          <a:ln w="0">
            <a:noFill/>
          </a:ln>
        </p:spPr>
      </p:pic>
      <p:pic>
        <p:nvPicPr>
          <p:cNvPr id="51" name="64_v" descr=""/>
          <p:cNvPicPr/>
          <p:nvPr/>
        </p:nvPicPr>
        <p:blipFill>
          <a:blip r:embed="rId2"/>
          <a:stretch/>
        </p:blipFill>
        <p:spPr>
          <a:xfrm>
            <a:off x="0" y="3352680"/>
            <a:ext cx="45720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ony A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ýchodní A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ihovýchodní A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ižní A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ihozápadní A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řední A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kavkazk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sk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22860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11560" y="2457360"/>
            <a:ext cx="29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zunová A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20:41:35Z</dcterms:created>
  <dc:creator>kk</dc:creator>
  <dc:description/>
  <dc:language>en-US</dc:language>
  <cp:lastModifiedBy>kk</cp:lastModifiedBy>
  <dcterms:modified xsi:type="dcterms:W3CDTF">2006-03-13T21:17:23Z</dcterms:modified>
  <cp:revision>4</cp:revision>
  <dc:subject/>
  <dc:title>Hospodářství a doprava Asie</dc:title>
</cp:coreProperties>
</file>