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DDB-F3D2-4A13-A1B8-BC009C6B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08F-A732-4031-8EBE-4C1B92D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8E6-465C-43B7-B0B9-9AB21835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5CD-1A70-474C-AD5A-3CFCB282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FBA-DCD9-4F7F-BD68-56C8547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265-247E-44E5-9DAA-2AA0676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7D0-E442-4A00-B372-E8567A5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1CA-30E6-40E7-AFD5-EFCA56EE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830-EB09-408A-9B88-EF01112F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1DE-ACB2-40DD-8922-830A436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401-F4D2-4EBD-997E-16460A84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CBA-D241-4285-AEC2-15FD6F8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2C5-AF33-495C-A2D1-3D8F1E10C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ÍNA – ŘÍŠE STŘED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Čína" descr="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3346200"/>
          </a:xfrm>
          <a:prstGeom prst="rect">
            <a:avLst/>
          </a:prstGeom>
          <a:ln w="0">
            <a:noFill/>
          </a:ln>
        </p:spPr>
      </p:pic>
      <p:pic>
        <p:nvPicPr>
          <p:cNvPr id="43" name="zakazane_mesto" descr=""/>
          <p:cNvPicPr/>
          <p:nvPr/>
        </p:nvPicPr>
        <p:blipFill>
          <a:blip r:embed="rId2"/>
          <a:stretch/>
        </p:blipFill>
        <p:spPr>
          <a:xfrm>
            <a:off x="3733920" y="3306600"/>
            <a:ext cx="54100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jisti chybějící úd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území Číny leží nejvyšší pohoří na Zemi……..a nejvýše položená náhorní plošina……..Střed vyplňují rovněž dvě rozlehlé pouště……….a…….. Přes Velkou čínskou nížinu protékají dvě nejdůležitější řeky……a…….které ústí do ……..a……….moř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ína se rozkládá ve čtyřech vegetačních pásech:……….a třech podnebných pásech:……… Podnebí zde ovlivňuje letní a zimní……… a dále kontinentalita podnebí a nadmořská výš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ína - Pe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jlidnatější stát na světě (1 250 mil.) a 3. nejrozlehlejší (9,5 mil. km</a:t>
            </a:r>
            <a:r>
              <a:rPr b="0" lang="cs-CZ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 hustotou asi 130 ob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 velmi stará kul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císařství do roku 1912, poté republika - diktatura), 80% Chanové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% na žije na venkově x obrovská města a hustota osídl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émem je vysoký přírůstek obyvate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mezová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hin-terracotta-soldiers-l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emědělství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aměřené podle podneb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ýže, pšenice, bavlna, pastevectví aj.)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dinný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ůmysl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žb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opa, uhlí, žel. ruda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těžké strojírenství, textilní. Zahraniční investice a zóny volného obcho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ké rozdíly mezi zaostalým vnitrozemím a rozvinutým pobřeží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actory_Audit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52" name="lijiang_field" descr=""/>
          <p:cNvPicPr/>
          <p:nvPr/>
        </p:nvPicPr>
        <p:blipFill>
          <a:blip r:embed="rId2"/>
          <a:stretch/>
        </p:blipFill>
        <p:spPr>
          <a:xfrm>
            <a:off x="304920" y="382572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b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ástí Číny, snaha o samostatnost = obsazení armádou (Dalajláma žije v exil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ngko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od ro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1997 vrácen Čí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ca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rác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 roku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w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ást Čín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naha o nezávislo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hasa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4724640" cy="2940120"/>
          </a:xfrm>
          <a:prstGeom prst="rect">
            <a:avLst/>
          </a:prstGeom>
          <a:ln w="0">
            <a:noFill/>
          </a:ln>
        </p:spPr>
      </p:pic>
      <p:pic>
        <p:nvPicPr>
          <p:cNvPr id="55" name="2012095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4038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20:42:25Z</dcterms:created>
  <dc:creator>kk</dc:creator>
  <dc:description/>
  <dc:language>en-US</dc:language>
  <cp:lastModifiedBy>kk</cp:lastModifiedBy>
  <dcterms:modified xsi:type="dcterms:W3CDTF">2006-03-27T21:09:39Z</dcterms:modified>
  <cp:revision>3</cp:revision>
  <dc:subject/>
  <dc:title>ČÍNA – ZEMĚ STŘEDU</dc:title>
</cp:coreProperties>
</file>