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C7B-5EA7-4BAC-B686-066D70B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B86-E5C5-4AD0-B557-B2960B0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856-82EE-4E68-8FC5-CFFB2DC5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188-54DA-40F0-B770-373EC7D1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460-01CA-4E44-A3F5-22C5625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485-3B8C-4200-86F4-1DC07DD0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0C0-124F-4D5D-85FF-F67407C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753-F4A4-407E-BBB6-7809E02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C0A-B87C-4D74-B632-C9C30F7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F5E-97D6-4AEE-9520-FC32FE0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3F7-BE3E-4DD7-B67F-7E606A1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7AC-F9F5-4194-AF6E-170E2FC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AE07-8C28-471E-9CDA-002C4592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ÍZKÝ VÝC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ébka civilizací a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á se o státy ležící v okolí Středozemního moře (středomořské podnebí a vegetace), které tuto oblast spojovalo a dodnes spojuje s Evropou (civilizace, kultura, dějin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28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zrael (Jeruzalé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dovský stát (vznik 1947) –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</a:rPr>
              <a:t>konflikty se sous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pělé hospodářství (intenzivní závlahové zemědělství, kibuci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</a:rPr>
              <a:t>rozvinutý průmys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524560" cy="382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104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ecko (Ank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ropsko-asijský stát s rychlý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hospodářským růste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řadou vnitřních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usiluje o vstup do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421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Sýrie (Damašek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hl.město je nejstarším hl. městem svě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Jordánsko (Ammán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turistika (PET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Libanon (Bejrú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ábožensky různorodá (heterogenní) země = občanská válka (1975-1990) zpustošila dříve rozvinutou z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Kypr (Lefkosi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strov rozdělen na řeckou (většina ostrova) a tureckou (sever ostrova) část. Důležitá je turist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07:10Z</dcterms:created>
  <dc:creator>kk</dc:creator>
  <dc:description/>
  <dc:language>en-US</dc:language>
  <cp:lastModifiedBy>kk</cp:lastModifiedBy>
  <dcterms:modified xsi:type="dcterms:W3CDTF">2007-05-25T12:42:27Z</dcterms:modified>
  <cp:revision>10</cp:revision>
  <dc:subject/>
  <dc:title>BLÍZKÝ VÝCHOD</dc:title>
</cp:coreProperties>
</file>