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268-F9FA-4993-A65E-E2AB6AF7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181-C269-417B-B83F-5968A2C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16-284A-4DAA-87E5-72732513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718-A11E-4E90-AC3F-30CC1F8C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EAB-3BE4-47FB-AAF8-0CF5C5EE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086-7769-4F35-B8EF-D9ED6A88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F88-2C66-431F-91DD-058C852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C99-15BE-49B2-9C52-4CA9216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BEA-E853-4666-B65A-337D58B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81-7FC1-4971-9F6F-3FBA9C5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8FD-2D85-4221-993E-F19AB3B8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722-E391-427E-89B5-77478DF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01A0-A9B7-42F8-ADEC-4E818E69C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ÍZKÝ VÝ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iddle_east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02920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447920"/>
            <a:ext cx="2362320" cy="1981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eruzalem%20eigen%20foto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4686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 tajence je jeden ze států Blízkého výcho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yšší vrchol pohoří Taurus je Velký …..(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hoří na poloostrově Malá Asie (6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níže položené jezero světa je …..moře (5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ře omývající západní pobřeží Malé Asie (7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ře omývající severní pobřeží Malé Asie (5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tajence vynechej háček nad písmenem patřící do tajenky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trov ve Středozemním moři (4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ka vtékající do Mrtvého moře (6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to stát leží jak v Evropě tak v Asii. Hranici kontinentů v tomto státě oddělují dvě úžiny (průlivy), víš které to jsou?! (Hledej v atlase na straně 9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ou oblast ovlivňuje teplé subtropické klima (v zemědělství nutné zavlažování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lébka kulturního světa (Féničané, Řekové, Římané aj.) – vznik KŘESŤANSTVÍ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nes neklidná oblast (náboženství, etnika) = TERORISM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roja" descr=""/>
          <p:cNvPicPr/>
          <p:nvPr/>
        </p:nvPicPr>
        <p:blipFill>
          <a:blip r:embed="rId1"/>
          <a:stretch/>
        </p:blipFill>
        <p:spPr>
          <a:xfrm>
            <a:off x="6288120" y="2362320"/>
            <a:ext cx="2855880" cy="3962160"/>
          </a:xfrm>
          <a:prstGeom prst="rect">
            <a:avLst/>
          </a:prstGeom>
          <a:ln w="0">
            <a:noFill/>
          </a:ln>
        </p:spPr>
      </p:pic>
      <p:pic>
        <p:nvPicPr>
          <p:cNvPr id="49" name="izrael-2-1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4419720" cy="2892240"/>
          </a:xfrm>
          <a:prstGeom prst="rect">
            <a:avLst/>
          </a:prstGeom>
          <a:ln w="0">
            <a:noFill/>
          </a:ln>
        </p:spPr>
      </p:pic>
      <p:pic>
        <p:nvPicPr>
          <p:cNvPr id="50" name="OBR8276" descr=""/>
          <p:cNvPicPr/>
          <p:nvPr/>
        </p:nvPicPr>
        <p:blipFill>
          <a:blip r:embed="rId3"/>
          <a:stretch/>
        </p:blipFill>
        <p:spPr>
          <a:xfrm>
            <a:off x="0" y="2209680"/>
            <a:ext cx="2336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Izrael (Tel-Aviv-Jafa, Jeruzalém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průmyslově vyspělý pouštní židovský stát (Židé a Palestinci – terorismu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Jordánsko (Ammán)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ětšina obyvatel v okolí řeky Jordán, archeologické naleziště Pe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Kypr (Lefkósia)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strov rozdělen na řeckou a tureckou část, C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ibanon (Bejrút)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náboženská válka rozvrátila dříve velmi bohatou ze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ýrie (Dama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jedno z nejstarších měst světa): chudá země s novými nalezišti ro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urecko (Ankara)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Evropa-Asie, poměrně rozvinutý stá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6:11:42Z</dcterms:created>
  <dc:creator>kk</dc:creator>
  <dc:description/>
  <dc:language>en-US</dc:language>
  <cp:lastModifiedBy>kk</cp:lastModifiedBy>
  <dcterms:modified xsi:type="dcterms:W3CDTF">2006-05-29T20:46:54Z</dcterms:modified>
  <cp:revision>7</cp:revision>
  <dc:subject/>
  <dc:title>BLÍZKÝ VÝCHOD</dc:title>
</cp:coreProperties>
</file>