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E63-2A30-4335-B90E-6939C708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703-7150-4A0D-99B6-EFD9A436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17E-9083-494B-BA29-B02A59EA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478-3A64-4B1E-ABBF-2E528922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208-BCCF-4137-AB6B-4669B156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5D3-66AF-4BCE-AF52-F87E9195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407-8026-475B-B085-03F35A8E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780-9E77-4D39-AA4E-D728F4BA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72C-5809-4847-A717-8782E5CD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9B7-CDF3-49B1-9D88-454EECC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CD6-7ED6-44A4-824B-C3E36926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C21-88A1-4B0C-BF72-600A492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D083-A885-4768-BB2C-3BD72186C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21stoleti.cz/view.php?cisloclanku=2006021724" TargetMode="External"/><Relationship Id="rId2" Type="http://schemas.openxmlformats.org/officeDocument/2006/relationships/hyperlink" Target="http://ekopunks.blog.cz/0802/kaceni-a-vypalovani-destnych-pralesu" TargetMode="External"/><Relationship Id="rId3" Type="http://schemas.openxmlformats.org/officeDocument/2006/relationships/hyperlink" Target="http://gnosis9.net/view.php?cisloclanku=2005070025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213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ČLOVĚK PŮSOBÍ NA RELIÉ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zv. antropogenní ero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dé mění svět 80x rychleji než příroda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? Tady je pár negativních příkladů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2856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ěžba: Kdyby všechno kamení, písek i hlína, které člověk za posledních 5000 let vykopal a přenesl na jednu hromadu, vyrostlo by tak velké, široké a vysoké pohoří, jako je Kavkaz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íce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fo z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mazonské pralesy jsou dnes káceny neuvěřitelným tempem. Každou minutu je odlesněna plocha odpovídající rozloze šesti fotbalových hřišť.Jen za poslední rok bylo v Amazonii vykáceno 16 838 čtverečních kilometrů pralesa, což je plocha, která se svou rozlohou rovná polovině Belgie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íce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fo z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i soutěsky - symbol čínské megalománie: Postupně vytváří jezero o délce 640 kilometrů a hloubce 170 metrů. Voda už pohltila desítky měst a stovky vesnic. Pod hladinou zmizela i cenná archeologická naleziště. Vystěhovány byly více než dva miliony lidí. Ekologické škody jsou obrovské. (více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fo z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29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7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716360" y="3500280"/>
            <a:ext cx="4427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898800"/>
            <a:ext cx="4427640" cy="295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857840" y="3524400"/>
            <a:ext cx="4286160" cy="333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916360" y="1413000"/>
            <a:ext cx="3463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le přírodních činitelů působí na reliéf, především v poslední době, výrazně i člově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dříve byly změny malé – kácel lesy, stavěl rybníky a obydlí. Později byly změny rozsáhlé – těžba nerostných surovin, stavba vodních děl a podob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9:00:40Z</dcterms:created>
  <dc:creator>jj</dc:creator>
  <dc:description/>
  <dc:language>en-US</dc:language>
  <cp:lastModifiedBy>jj</cp:lastModifiedBy>
  <dcterms:modified xsi:type="dcterms:W3CDTF">2008-12-11T19:57:11Z</dcterms:modified>
  <cp:revision>3</cp:revision>
  <dc:subject/>
  <dc:title>ČLOVĚK JAKO GEOMORFOLOGICKÝ ČINITEL</dc:title>
</cp:coreProperties>
</file>