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DE0-660B-4D98-A501-13E7A08F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5CF-A24C-45DE-A9F3-7E19057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3C6-0A2B-4E6B-89D9-5A93B67A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30F-B2E5-41D0-ACCD-40CE581E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AF2-1FED-4326-BCDA-3404383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9F4-1CD6-4E72-B94C-FFFEC3B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87A-8D6E-46C1-97B7-442E216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47B-91E6-41F3-B582-35A5A5BF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C36-87A1-4912-92DD-AF3395C3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A74-55AB-417A-AF7F-8D69835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DEC-053F-49E3-A2E5-694AD06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B6C-3AF7-48E1-8C78-D5A2528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3F83-A319-4560-B36E-4C8BAC66D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ysvet.cz/images.php?fotka=antarktida_4&amp;dd=1888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0480" y="9806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313080"/>
            <a:ext cx="5435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580000" y="-360"/>
            <a:ext cx="356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opl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ky k čarám a bod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sův šelfový ledovec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elfový ledovec         E Ronneové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sovo moř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ddellovo moř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llingshausenovo moře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arktický pol.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antarktické pohoří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žní Shetlandy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197000"/>
            <a:ext cx="3941640" cy="4470480"/>
          </a:xfrm>
          <a:custGeom>
            <a:avLst/>
            <a:gdLst/>
            <a:ahLst/>
            <a:rect l="l" t="t" r="r" b="b"/>
            <a:pathLst>
              <a:path w="2483" h="2816">
                <a:moveTo>
                  <a:pt x="100" y="2340"/>
                </a:moveTo>
                <a:cubicBezTo>
                  <a:pt x="66" y="2299"/>
                  <a:pt x="36" y="2276"/>
                  <a:pt x="0" y="2240"/>
                </a:cubicBezTo>
                <a:cubicBezTo>
                  <a:pt x="3" y="2097"/>
                  <a:pt x="4" y="1953"/>
                  <a:pt x="9" y="1810"/>
                </a:cubicBezTo>
                <a:cubicBezTo>
                  <a:pt x="10" y="1773"/>
                  <a:pt x="21" y="1744"/>
                  <a:pt x="45" y="1718"/>
                </a:cubicBezTo>
                <a:cubicBezTo>
                  <a:pt x="58" y="1544"/>
                  <a:pt x="38" y="1579"/>
                  <a:pt x="228" y="1590"/>
                </a:cubicBezTo>
                <a:cubicBezTo>
                  <a:pt x="371" y="1616"/>
                  <a:pt x="542" y="1656"/>
                  <a:pt x="667" y="1572"/>
                </a:cubicBezTo>
                <a:cubicBezTo>
                  <a:pt x="680" y="1534"/>
                  <a:pt x="709" y="1514"/>
                  <a:pt x="731" y="1481"/>
                </a:cubicBezTo>
                <a:cubicBezTo>
                  <a:pt x="748" y="1429"/>
                  <a:pt x="781" y="1403"/>
                  <a:pt x="822" y="1371"/>
                </a:cubicBezTo>
                <a:cubicBezTo>
                  <a:pt x="829" y="1366"/>
                  <a:pt x="833" y="1357"/>
                  <a:pt x="841" y="1353"/>
                </a:cubicBezTo>
                <a:cubicBezTo>
                  <a:pt x="858" y="1344"/>
                  <a:pt x="880" y="1345"/>
                  <a:pt x="896" y="1334"/>
                </a:cubicBezTo>
                <a:cubicBezTo>
                  <a:pt x="931" y="1311"/>
                  <a:pt x="913" y="1319"/>
                  <a:pt x="950" y="1307"/>
                </a:cubicBezTo>
                <a:cubicBezTo>
                  <a:pt x="1017" y="1244"/>
                  <a:pt x="892" y="1209"/>
                  <a:pt x="850" y="1197"/>
                </a:cubicBezTo>
                <a:cubicBezTo>
                  <a:pt x="832" y="1192"/>
                  <a:pt x="795" y="1179"/>
                  <a:pt x="795" y="1179"/>
                </a:cubicBezTo>
                <a:cubicBezTo>
                  <a:pt x="786" y="1170"/>
                  <a:pt x="779" y="1159"/>
                  <a:pt x="768" y="1152"/>
                </a:cubicBezTo>
                <a:cubicBezTo>
                  <a:pt x="760" y="1146"/>
                  <a:pt x="747" y="1149"/>
                  <a:pt x="740" y="1142"/>
                </a:cubicBezTo>
                <a:cubicBezTo>
                  <a:pt x="708" y="1110"/>
                  <a:pt x="758" y="1116"/>
                  <a:pt x="713" y="1088"/>
                </a:cubicBezTo>
                <a:cubicBezTo>
                  <a:pt x="656" y="1052"/>
                  <a:pt x="503" y="1061"/>
                  <a:pt x="475" y="1060"/>
                </a:cubicBezTo>
                <a:cubicBezTo>
                  <a:pt x="575" y="909"/>
                  <a:pt x="474" y="1154"/>
                  <a:pt x="521" y="685"/>
                </a:cubicBezTo>
                <a:cubicBezTo>
                  <a:pt x="522" y="673"/>
                  <a:pt x="567" y="645"/>
                  <a:pt x="576" y="640"/>
                </a:cubicBezTo>
                <a:cubicBezTo>
                  <a:pt x="629" y="613"/>
                  <a:pt x="692" y="590"/>
                  <a:pt x="749" y="576"/>
                </a:cubicBezTo>
                <a:cubicBezTo>
                  <a:pt x="763" y="562"/>
                  <a:pt x="781" y="553"/>
                  <a:pt x="795" y="539"/>
                </a:cubicBezTo>
                <a:cubicBezTo>
                  <a:pt x="822" y="512"/>
                  <a:pt x="820" y="497"/>
                  <a:pt x="859" y="484"/>
                </a:cubicBezTo>
                <a:cubicBezTo>
                  <a:pt x="916" y="495"/>
                  <a:pt x="978" y="512"/>
                  <a:pt x="1014" y="457"/>
                </a:cubicBezTo>
                <a:cubicBezTo>
                  <a:pt x="1031" y="283"/>
                  <a:pt x="1032" y="337"/>
                  <a:pt x="1243" y="347"/>
                </a:cubicBezTo>
                <a:cubicBezTo>
                  <a:pt x="1331" y="369"/>
                  <a:pt x="1291" y="360"/>
                  <a:pt x="1362" y="374"/>
                </a:cubicBezTo>
                <a:cubicBezTo>
                  <a:pt x="1411" y="371"/>
                  <a:pt x="1460" y="372"/>
                  <a:pt x="1508" y="365"/>
                </a:cubicBezTo>
                <a:cubicBezTo>
                  <a:pt x="1550" y="358"/>
                  <a:pt x="1568" y="281"/>
                  <a:pt x="1618" y="265"/>
                </a:cubicBezTo>
                <a:cubicBezTo>
                  <a:pt x="1631" y="225"/>
                  <a:pt x="1630" y="211"/>
                  <a:pt x="1654" y="182"/>
                </a:cubicBezTo>
                <a:cubicBezTo>
                  <a:pt x="1680" y="149"/>
                  <a:pt x="1724" y="127"/>
                  <a:pt x="1755" y="100"/>
                </a:cubicBezTo>
                <a:cubicBezTo>
                  <a:pt x="1771" y="86"/>
                  <a:pt x="1782" y="64"/>
                  <a:pt x="1801" y="54"/>
                </a:cubicBezTo>
                <a:cubicBezTo>
                  <a:pt x="1854" y="28"/>
                  <a:pt x="1825" y="40"/>
                  <a:pt x="1892" y="18"/>
                </a:cubicBezTo>
                <a:cubicBezTo>
                  <a:pt x="1901" y="15"/>
                  <a:pt x="1911" y="12"/>
                  <a:pt x="1920" y="9"/>
                </a:cubicBezTo>
                <a:cubicBezTo>
                  <a:pt x="1929" y="6"/>
                  <a:pt x="1947" y="0"/>
                  <a:pt x="1947" y="0"/>
                </a:cubicBezTo>
                <a:cubicBezTo>
                  <a:pt x="1919" y="28"/>
                  <a:pt x="1915" y="51"/>
                  <a:pt x="1883" y="73"/>
                </a:cubicBezTo>
                <a:cubicBezTo>
                  <a:pt x="1868" y="119"/>
                  <a:pt x="1843" y="166"/>
                  <a:pt x="1810" y="201"/>
                </a:cubicBezTo>
                <a:cubicBezTo>
                  <a:pt x="1784" y="280"/>
                  <a:pt x="1821" y="182"/>
                  <a:pt x="1782" y="246"/>
                </a:cubicBezTo>
                <a:cubicBezTo>
                  <a:pt x="1777" y="254"/>
                  <a:pt x="1777" y="265"/>
                  <a:pt x="1773" y="274"/>
                </a:cubicBezTo>
                <a:cubicBezTo>
                  <a:pt x="1768" y="284"/>
                  <a:pt x="1761" y="292"/>
                  <a:pt x="1755" y="301"/>
                </a:cubicBezTo>
                <a:cubicBezTo>
                  <a:pt x="1739" y="349"/>
                  <a:pt x="1728" y="396"/>
                  <a:pt x="1700" y="438"/>
                </a:cubicBezTo>
                <a:cubicBezTo>
                  <a:pt x="1679" y="502"/>
                  <a:pt x="1708" y="427"/>
                  <a:pt x="1664" y="493"/>
                </a:cubicBezTo>
                <a:cubicBezTo>
                  <a:pt x="1640" y="529"/>
                  <a:pt x="1630" y="577"/>
                  <a:pt x="1590" y="603"/>
                </a:cubicBezTo>
                <a:cubicBezTo>
                  <a:pt x="1559" y="624"/>
                  <a:pt x="1508" y="621"/>
                  <a:pt x="1472" y="630"/>
                </a:cubicBezTo>
                <a:cubicBezTo>
                  <a:pt x="1435" y="655"/>
                  <a:pt x="1406" y="652"/>
                  <a:pt x="1371" y="621"/>
                </a:cubicBezTo>
                <a:cubicBezTo>
                  <a:pt x="1355" y="607"/>
                  <a:pt x="1325" y="576"/>
                  <a:pt x="1325" y="576"/>
                </a:cubicBezTo>
                <a:cubicBezTo>
                  <a:pt x="1298" y="579"/>
                  <a:pt x="1254" y="560"/>
                  <a:pt x="1243" y="585"/>
                </a:cubicBezTo>
                <a:cubicBezTo>
                  <a:pt x="1222" y="632"/>
                  <a:pt x="1244" y="689"/>
                  <a:pt x="1252" y="740"/>
                </a:cubicBezTo>
                <a:cubicBezTo>
                  <a:pt x="1255" y="761"/>
                  <a:pt x="1277" y="772"/>
                  <a:pt x="1289" y="786"/>
                </a:cubicBezTo>
                <a:cubicBezTo>
                  <a:pt x="1336" y="844"/>
                  <a:pt x="1388" y="916"/>
                  <a:pt x="1462" y="941"/>
                </a:cubicBezTo>
                <a:cubicBezTo>
                  <a:pt x="1492" y="971"/>
                  <a:pt x="1524" y="992"/>
                  <a:pt x="1563" y="1005"/>
                </a:cubicBezTo>
                <a:cubicBezTo>
                  <a:pt x="1611" y="1039"/>
                  <a:pt x="1653" y="1033"/>
                  <a:pt x="1709" y="1024"/>
                </a:cubicBezTo>
                <a:cubicBezTo>
                  <a:pt x="1712" y="984"/>
                  <a:pt x="1687" y="930"/>
                  <a:pt x="1718" y="905"/>
                </a:cubicBezTo>
                <a:cubicBezTo>
                  <a:pt x="1751" y="878"/>
                  <a:pt x="1861" y="920"/>
                  <a:pt x="1910" y="932"/>
                </a:cubicBezTo>
                <a:cubicBezTo>
                  <a:pt x="1954" y="961"/>
                  <a:pt x="2008" y="977"/>
                  <a:pt x="2057" y="996"/>
                </a:cubicBezTo>
                <a:cubicBezTo>
                  <a:pt x="2075" y="1003"/>
                  <a:pt x="2112" y="1014"/>
                  <a:pt x="2112" y="1014"/>
                </a:cubicBezTo>
                <a:cubicBezTo>
                  <a:pt x="2152" y="1056"/>
                  <a:pt x="2103" y="1011"/>
                  <a:pt x="2166" y="1042"/>
                </a:cubicBezTo>
                <a:cubicBezTo>
                  <a:pt x="2193" y="1055"/>
                  <a:pt x="2204" y="1075"/>
                  <a:pt x="2240" y="1088"/>
                </a:cubicBezTo>
                <a:cubicBezTo>
                  <a:pt x="2294" y="1142"/>
                  <a:pt x="2273" y="1198"/>
                  <a:pt x="2340" y="1243"/>
                </a:cubicBezTo>
                <a:cubicBezTo>
                  <a:pt x="2483" y="1457"/>
                  <a:pt x="2432" y="1781"/>
                  <a:pt x="2331" y="2011"/>
                </a:cubicBezTo>
                <a:cubicBezTo>
                  <a:pt x="2312" y="2054"/>
                  <a:pt x="2310" y="2084"/>
                  <a:pt x="2285" y="2121"/>
                </a:cubicBezTo>
                <a:cubicBezTo>
                  <a:pt x="2272" y="2160"/>
                  <a:pt x="2249" y="2188"/>
                  <a:pt x="2240" y="2230"/>
                </a:cubicBezTo>
                <a:cubicBezTo>
                  <a:pt x="2229" y="2282"/>
                  <a:pt x="2227" y="2335"/>
                  <a:pt x="2212" y="2386"/>
                </a:cubicBezTo>
                <a:cubicBezTo>
                  <a:pt x="2207" y="2405"/>
                  <a:pt x="2208" y="2427"/>
                  <a:pt x="2194" y="2441"/>
                </a:cubicBezTo>
                <a:cubicBezTo>
                  <a:pt x="2176" y="2459"/>
                  <a:pt x="2153" y="2474"/>
                  <a:pt x="2139" y="2496"/>
                </a:cubicBezTo>
                <a:cubicBezTo>
                  <a:pt x="2116" y="2531"/>
                  <a:pt x="2131" y="2520"/>
                  <a:pt x="2093" y="2532"/>
                </a:cubicBezTo>
                <a:cubicBezTo>
                  <a:pt x="2020" y="2581"/>
                  <a:pt x="1983" y="2563"/>
                  <a:pt x="1874" y="2569"/>
                </a:cubicBezTo>
                <a:cubicBezTo>
                  <a:pt x="1804" y="2592"/>
                  <a:pt x="1729" y="2646"/>
                  <a:pt x="1654" y="2651"/>
                </a:cubicBezTo>
                <a:cubicBezTo>
                  <a:pt x="1611" y="2654"/>
                  <a:pt x="1569" y="2657"/>
                  <a:pt x="1526" y="2660"/>
                </a:cubicBezTo>
                <a:cubicBezTo>
                  <a:pt x="1496" y="2670"/>
                  <a:pt x="1484" y="2687"/>
                  <a:pt x="1453" y="2697"/>
                </a:cubicBezTo>
                <a:cubicBezTo>
                  <a:pt x="1422" y="2717"/>
                  <a:pt x="1415" y="2740"/>
                  <a:pt x="1380" y="2752"/>
                </a:cubicBezTo>
                <a:cubicBezTo>
                  <a:pt x="1358" y="2786"/>
                  <a:pt x="1319" y="2802"/>
                  <a:pt x="1280" y="2816"/>
                </a:cubicBezTo>
                <a:cubicBezTo>
                  <a:pt x="1120" y="2810"/>
                  <a:pt x="977" y="2804"/>
                  <a:pt x="822" y="2779"/>
                </a:cubicBezTo>
                <a:cubicBezTo>
                  <a:pt x="804" y="2773"/>
                  <a:pt x="781" y="2774"/>
                  <a:pt x="768" y="2761"/>
                </a:cubicBezTo>
                <a:cubicBezTo>
                  <a:pt x="742" y="2735"/>
                  <a:pt x="757" y="2745"/>
                  <a:pt x="722" y="2733"/>
                </a:cubicBezTo>
                <a:cubicBezTo>
                  <a:pt x="689" y="2683"/>
                  <a:pt x="605" y="2605"/>
                  <a:pt x="548" y="2587"/>
                </a:cubicBezTo>
                <a:cubicBezTo>
                  <a:pt x="517" y="2541"/>
                  <a:pt x="462" y="2539"/>
                  <a:pt x="420" y="2505"/>
                </a:cubicBezTo>
                <a:cubicBezTo>
                  <a:pt x="338" y="2439"/>
                  <a:pt x="252" y="2388"/>
                  <a:pt x="164" y="2331"/>
                </a:cubicBezTo>
                <a:cubicBezTo>
                  <a:pt x="130" y="2309"/>
                  <a:pt x="84" y="2324"/>
                  <a:pt x="54" y="2294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57720"/>
            <a:ext cx="612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189000"/>
            <a:ext cx="0" cy="6335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1268280"/>
            <a:ext cx="4465800" cy="46087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421000"/>
            <a:ext cx="14616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292640"/>
            <a:ext cx="730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3500280"/>
            <a:ext cx="145800" cy="14472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2133720"/>
            <a:ext cx="287280" cy="50328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2924280"/>
            <a:ext cx="71640" cy="79200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1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50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71688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6720" y="228600"/>
            <a:ext cx="2174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plejší půl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15880" y="1676520"/>
            <a:ext cx="2349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bílé plochy zná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rňuje rozsah zaledně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 Antarktidy v let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ůl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vlastní antarkt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ké pevniny je vš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n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962520"/>
            <a:ext cx="22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elfové ledovce nelež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lastní souši, 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ékají“ na kontine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ální šel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6720" y="228600"/>
            <a:ext cx="2174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adnější půl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14800" y="1676520"/>
            <a:ext cx="232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raje bílé plochy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bližně kryjí s nejzaz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anicí zamrzání moř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olo Antarkti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36040" y="3124080"/>
            <a:ext cx="213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ětle modrá bar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ánu představu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adné antarktick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dy a v podsta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mezuje oblast ok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arktické oceánic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kul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arkt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ytá ledovcem (obrovská zásoba vody, polární podnebí (nízké teploty -30 až -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, málo srážek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hudá vegetace (mechy, lišejníky, trávy), fauna spíše v moři + tučňáci, tul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ellinghausen (19. století), R. Amundsen (19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rvalé neosídlená – pouze polární stanice (asi 60 stanic s 2000 vědců), turisté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vní zjištění ozónové díry nad Antarktidou. Obrovské zásoby nerostů – nevyužívány. Oblast určena pouze na vědecké úč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5:45:45Z</dcterms:created>
  <dc:creator>kk</dc:creator>
  <dc:description/>
  <dc:language>en-US</dc:language>
  <cp:lastModifiedBy>kk</cp:lastModifiedBy>
  <dcterms:modified xsi:type="dcterms:W3CDTF">2006-06-11T20:40:35Z</dcterms:modified>
  <cp:revision>10</cp:revision>
  <dc:subject/>
  <dc:title>ANTARKTIDA</dc:title>
</cp:coreProperties>
</file>