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2BA-DD1A-4466-BF41-FB5B0987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CE4-F17D-4BCC-A15A-26866F2F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11C-7D84-4486-A834-88ACE65C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2A2-E1E8-4865-B929-BA271FE8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EE9-C860-4025-9814-CD5538E2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FDC-F593-44F5-A97E-FFFD16AF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254-5DF5-4C53-B0F8-72A1381D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1AA-67A1-4583-89F7-8E2B036F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3B6-6D45-4145-B702-C0B3D0CF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4C5-4FD7-40AC-978B-FA0A3D3C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45A-EE17-49D2-BC42-07B53826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48F-28F0-453A-A8AE-597E97CF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8400-D66F-400D-9479-7630B154E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SKÉ STÁ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SPODÁŘSTVÍ A STÁ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ama" descr=""/>
          <p:cNvPicPr/>
          <p:nvPr/>
        </p:nvPicPr>
        <p:blipFill>
          <a:blip r:embed="rId1"/>
          <a:stretch/>
        </p:blipFill>
        <p:spPr>
          <a:xfrm>
            <a:off x="0" y="1447920"/>
            <a:ext cx="4952880" cy="3303360"/>
          </a:xfrm>
          <a:prstGeom prst="rect">
            <a:avLst/>
          </a:prstGeom>
          <a:ln w="0">
            <a:noFill/>
          </a:ln>
        </p:spPr>
      </p:pic>
      <p:pic>
        <p:nvPicPr>
          <p:cNvPr id="44" name="La%20Candelabra" descr=""/>
          <p:cNvPicPr/>
          <p:nvPr/>
        </p:nvPicPr>
        <p:blipFill>
          <a:blip r:embed="rId2"/>
          <a:stretch/>
        </p:blipFill>
        <p:spPr>
          <a:xfrm>
            <a:off x="4227480" y="3171960"/>
            <a:ext cx="491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ěžební průmysl: ropa a zemní  plyn (V, E), měď a ledek (Ch), barevné kovy (B, C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ůmyslové odvětví: těžební a zpracovatelský, chemický, hutnictví, textilní a potravinářsk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emědělství: chov skoku, ovcí a lam (Ar, Ch), rybolov (Ch, P, E), banány (E, K, V), káva (K), kakao (E), dřeviny (B, E, 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6Ballestasr" descr=""/>
          <p:cNvPicPr/>
          <p:nvPr/>
        </p:nvPicPr>
        <p:blipFill>
          <a:blip r:embed="rId1"/>
          <a:stretch/>
        </p:blipFill>
        <p:spPr>
          <a:xfrm>
            <a:off x="609480" y="3316320"/>
            <a:ext cx="4724640" cy="3541680"/>
          </a:xfrm>
          <a:prstGeom prst="rect">
            <a:avLst/>
          </a:prstGeom>
          <a:ln w="0">
            <a:noFill/>
          </a:ln>
        </p:spPr>
      </p:pic>
      <p:pic>
        <p:nvPicPr>
          <p:cNvPr id="47" name="angel-falls-01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2728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4800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Bolívie (La Paz – nejvýše položené hl. měst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vnitrozemský stát, v zemědělství nesoběstač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Ekvádor (Quit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– těžba, lesy pokrývají 70% uzemí, Galapá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le (Santiag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– tři podnebné pásy, Atacama, guano, Velikonoční ostro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Kolumbie (Bogo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– drogy, plantážnictv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u (Lim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– Inko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nezuela (Caraca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– těžba ropy, cestovní r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a-paz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01840"/>
          </a:xfrm>
          <a:prstGeom prst="rect">
            <a:avLst/>
          </a:prstGeom>
          <a:ln w="0">
            <a:noFill/>
          </a:ln>
        </p:spPr>
      </p:pic>
      <p:pic>
        <p:nvPicPr>
          <p:cNvPr id="50" name="DWS-Peru-Women-big" descr=""/>
          <p:cNvPicPr/>
          <p:nvPr/>
        </p:nvPicPr>
        <p:blipFill>
          <a:blip r:embed="rId2"/>
          <a:stretch/>
        </p:blipFill>
        <p:spPr>
          <a:xfrm>
            <a:off x="4495680" y="3319560"/>
            <a:ext cx="44960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jist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lavní město (počet obyvatel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kový počet obyvatel a hustota osídlení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řední jazy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ebné pásy, vegetační pá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podářství (těžba, průmyslová odvětví, zemědělstv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aradona" descr=""/>
          <p:cNvPicPr/>
          <p:nvPr/>
        </p:nvPicPr>
        <p:blipFill>
          <a:blip r:embed="rId1"/>
          <a:stretch/>
        </p:blipFill>
        <p:spPr>
          <a:xfrm>
            <a:off x="6716880" y="0"/>
            <a:ext cx="242712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BUENOS%20AIRES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300852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juan_evita_peron" descr=""/>
          <p:cNvPicPr/>
          <p:nvPr/>
        </p:nvPicPr>
        <p:blipFill>
          <a:blip r:embed="rId3"/>
          <a:stretch/>
        </p:blipFill>
        <p:spPr>
          <a:xfrm>
            <a:off x="6172200" y="3732120"/>
            <a:ext cx="2971800" cy="2905200"/>
          </a:xfrm>
          <a:prstGeom prst="rect">
            <a:avLst/>
          </a:prstGeom>
          <a:ln w="0">
            <a:noFill/>
          </a:ln>
        </p:spPr>
      </p:pic>
      <p:pic>
        <p:nvPicPr>
          <p:cNvPr id="56" name="gauchos,-Uruguay" descr=""/>
          <p:cNvPicPr/>
          <p:nvPr/>
        </p:nvPicPr>
        <p:blipFill>
          <a:blip r:embed="rId4"/>
          <a:stretch/>
        </p:blipFill>
        <p:spPr>
          <a:xfrm>
            <a:off x="3124080" y="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21:14:51Z</dcterms:created>
  <dc:creator>kk</dc:creator>
  <dc:description/>
  <dc:language>en-US</dc:language>
  <cp:lastModifiedBy>kk</cp:lastModifiedBy>
  <dcterms:modified xsi:type="dcterms:W3CDTF">2006-01-16T21:29:55Z</dcterms:modified>
  <cp:revision>5</cp:revision>
  <dc:subject/>
  <dc:title>ANDSKÉ STÁTY</dc:title>
</cp:coreProperties>
</file>