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6533-2906-42E8-BCED-300F9347A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F103-8D13-4421-B7A2-6806B86E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C063-3683-4AB9-A46D-20277D5D9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7AB4-F7D5-461C-998F-C2A2CEC3B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138A-7378-4D58-8F5B-CA1257E6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D07E-01D6-44FB-92F3-57435125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FBC9-D6BE-4770-AD97-B069CDA3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A66B-A117-4432-82A6-FEFECC2A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2479-1AEE-4B7A-A540-E9C24131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91DB-F0E6-441A-ACFF-830D54C7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87E5-A937-44DC-B8E0-311E6556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1173-9DB3-486D-BF7F-C338EA6A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9CE8-A06B-4117-B496-74753CD37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IŽNÍ AMERI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943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NDSKÉ STÁ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Peru - Bílé Kordiliery"/>
          <p:cNvPicPr/>
          <p:nvPr/>
        </p:nvPicPr>
        <p:blipFill>
          <a:blip r:embed="rId1"/>
          <a:stretch/>
        </p:blipFill>
        <p:spPr>
          <a:xfrm>
            <a:off x="838080" y="838080"/>
            <a:ext cx="76201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Čtyři oblasti – pobřeží, Andy, tropický deštný les a step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Pro Andy je typická </a:t>
            </a:r>
            <a:r>
              <a:rPr b="0" lang="cs-CZ" sz="36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výšková stupňovitost 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podnebí a rostlinstva (jinak se uplatňuje šířková pásmovitost)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Základ hospodářství -  zemědělství, těžba nerostných surovin, potravinářský a chemický průmysl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Obyvatelstvo – běloši, indiáni a mestici. Ve všech státech se mluví španělsk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Patří zde 7 států (Argentina, Bolívie, Ekvádor, Chile, Kolumbie, Peru, Venezuela /+ závislé území VB – Falklandy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 flipV="1">
            <a:off x="1547640" y="1483920"/>
            <a:ext cx="2448000" cy="446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95640" y="1484280"/>
            <a:ext cx="216072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515772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429264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59280" y="3213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84720" y="4941720"/>
            <a:ext cx="169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orká zem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652000" y="4149720"/>
            <a:ext cx="168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0 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írná zem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93440" y="3284640"/>
            <a:ext cx="196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hladná zem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66400" y="1936800"/>
            <a:ext cx="389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d 300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tudená země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puna, paran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48720" y="357336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írný p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56920" y="44578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20720" y="530064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VÝŠKOVÉ STUPN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2T20:58:41Z</dcterms:created>
  <dc:creator>kk</dc:creator>
  <dc:description/>
  <dc:language>en-US</dc:language>
  <cp:lastModifiedBy>kk</cp:lastModifiedBy>
  <dcterms:modified xsi:type="dcterms:W3CDTF">2006-11-29T17:15:52Z</dcterms:modified>
  <cp:revision>11</cp:revision>
  <dc:subject/>
  <dc:title>JIŽNÍ AMERIKA</dc:title>
</cp:coreProperties>
</file>