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685E-DAA5-4CA8-B6F8-C4D51F3D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CDF2-3A4C-4DBD-A213-6BB0413C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BE9-AFC7-4FAA-B582-9A598FDD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C72-4291-4106-A2D7-AF000CD1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8A83-49EC-40F2-9EC9-8B420ACD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0F48-66ED-4214-8A5F-067C3E43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3C2-1CAE-4992-9E51-1FA4522D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A69-89C2-4B5D-96CB-D2662D9C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C04C-799C-43D9-A4A7-17AE6917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2693-0897-4DD8-8CD3-C22C3309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7549-9EAA-4C88-AE6D-EEEF231F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715A-3E72-4208-BA21-43C5744E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0AFD-7FD8-4BB1-AE47-37292AB980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ODSTVO AMERI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2408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Do vln Niagary hledí tulák starý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a svou první lásku vzpomíná….</a:t>
            </a:r>
            <a:r>
              <a:rPr b="0" i="1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http://zivotjinak.cz/pics/video.jpg"/>
          <p:cNvPicPr/>
          <p:nvPr/>
        </p:nvPicPr>
        <p:blipFill>
          <a:blip r:embed="rId2"/>
          <a:stretch/>
        </p:blipFill>
        <p:spPr>
          <a:xfrm>
            <a:off x="8459640" y="6278400"/>
            <a:ext cx="47016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http://www.trampturist.cz/stranky/letecky/grafika/sevamerika_05.jpg"/>
          <p:cNvPicPr/>
          <p:nvPr/>
        </p:nvPicPr>
        <p:blipFill>
          <a:blip r:embed="rId1"/>
          <a:stretch/>
        </p:blipFill>
        <p:spPr>
          <a:xfrm>
            <a:off x="0" y="3228840"/>
            <a:ext cx="5486400" cy="3629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http://ekolist.cz/velkeobrazky/Doprava/Vodni/Panamsky_pruplav01_z.jpg"/>
          <p:cNvPicPr/>
          <p:nvPr/>
        </p:nvPicPr>
        <p:blipFill>
          <a:blip r:embed="rId2"/>
          <a:stretch/>
        </p:blipFill>
        <p:spPr>
          <a:xfrm>
            <a:off x="0" y="380880"/>
            <a:ext cx="4172040" cy="2438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http://www.offshorecorporation.com/images/panama/panama1.jpg"/>
          <p:cNvPicPr/>
          <p:nvPr/>
        </p:nvPicPr>
        <p:blipFill>
          <a:blip r:embed="rId3"/>
          <a:stretch/>
        </p:blipFill>
        <p:spPr>
          <a:xfrm>
            <a:off x="4267080" y="0"/>
            <a:ext cx="4876920" cy="3203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5570640" y="365760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ANAMSKÝ PRŮPL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5562720" y="419112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élka 81,6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914 průplavem proplouvá první lo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http://zivotjinak.cz/pics/video.jpg"/>
          <p:cNvPicPr/>
          <p:nvPr/>
        </p:nvPicPr>
        <p:blipFill>
          <a:blip r:embed="rId4"/>
          <a:stretch/>
        </p:blipFill>
        <p:spPr>
          <a:xfrm>
            <a:off x="8459640" y="6278400"/>
            <a:ext cx="47016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upload.wikimedia.org/wikipedia/commons/thumb/9/91/Panama_Canal_Map_EN.png/744px-Panama_Canal_Map_EN.png"/>
          <p:cNvPicPr/>
          <p:nvPr/>
        </p:nvPicPr>
        <p:blipFill>
          <a:blip r:embed="rId1"/>
          <a:stretch/>
        </p:blipFill>
        <p:spPr>
          <a:xfrm>
            <a:off x="1332000" y="0"/>
            <a:ext cx="66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240" y="1080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Doplň správné názvy řek v Americe a určí jeho úmoří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640" y="1483920"/>
            <a:ext cx="6930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ato řeka vyhloubila hluboký kaňon – 446 km dlouhý, se šířkou od 500 m do 29 km. Okolí je prohlášeno za NP v USA. Je to řek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Řeka, která je největší, nejvodnatější a nejdelší na světě . Její délku změřili čeští hydrologové a zjistili, že má tři zdrojnice. Je t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ato nejdelší severoamerická řeka pramení nedaleko hranice USA a Kanady. Je t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a hranici mezi Mexikem a USA teče řek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Zaoblený obdélník 3"/>
          <p:cNvSpPr/>
          <p:nvPr/>
        </p:nvSpPr>
        <p:spPr>
          <a:xfrm>
            <a:off x="7020000" y="141300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Zaoblený obdélník 4"/>
          <p:cNvSpPr/>
          <p:nvPr/>
        </p:nvSpPr>
        <p:spPr>
          <a:xfrm>
            <a:off x="7010280" y="1996920"/>
            <a:ext cx="1871640" cy="4320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Zaoblený obdélník 5"/>
          <p:cNvSpPr/>
          <p:nvPr/>
        </p:nvSpPr>
        <p:spPr>
          <a:xfrm>
            <a:off x="7050240" y="306072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Zaoblený obdélník 6"/>
          <p:cNvSpPr/>
          <p:nvPr/>
        </p:nvSpPr>
        <p:spPr>
          <a:xfrm>
            <a:off x="7040520" y="3645000"/>
            <a:ext cx="1873440" cy="431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Zaoblený obdélník 7"/>
          <p:cNvSpPr/>
          <p:nvPr/>
        </p:nvSpPr>
        <p:spPr>
          <a:xfrm>
            <a:off x="7016760" y="5724360"/>
            <a:ext cx="1873080" cy="4320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Zaoblený obdélník 8"/>
          <p:cNvSpPr/>
          <p:nvPr/>
        </p:nvSpPr>
        <p:spPr>
          <a:xfrm>
            <a:off x="7007400" y="6308640"/>
            <a:ext cx="1871640" cy="4334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Zaoblený obdélník 9"/>
          <p:cNvSpPr/>
          <p:nvPr/>
        </p:nvSpPr>
        <p:spPr>
          <a:xfrm>
            <a:off x="7020000" y="450072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Zaoblený obdélník 10"/>
          <p:cNvSpPr/>
          <p:nvPr/>
        </p:nvSpPr>
        <p:spPr>
          <a:xfrm>
            <a:off x="7010280" y="5084640"/>
            <a:ext cx="1871640" cy="4320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5280" y="-360"/>
            <a:ext cx="91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Doplň správné názvy řek v Americe a určí jeho úmoří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640" y="1483920"/>
            <a:ext cx="6930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ato řeka vyhloubila hluboký kaňon – 446 km dlouhý, se šířkou od 500 m do 29 km. Okolí je prohlášeno za NP v USA. Je to řek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Řeka, která je největší, nejvodnatější a nejdelší na světě . Její délku změřili čeští hydrologové a zjistili, že má tři zdrojnice. Je t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ato nejdelší severoamerická řeka pramení nedaleko hranice USA a Kanady. Je t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a hranici mezi Mexikem a USA teče řek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Zaoblený obdélník 3"/>
          <p:cNvSpPr/>
          <p:nvPr/>
        </p:nvSpPr>
        <p:spPr>
          <a:xfrm>
            <a:off x="7020000" y="141300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OLO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Zaoblený obdélník 4"/>
          <p:cNvSpPr/>
          <p:nvPr/>
        </p:nvSpPr>
        <p:spPr>
          <a:xfrm>
            <a:off x="7010280" y="1996920"/>
            <a:ext cx="1871640" cy="4320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ICHÝ 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Zaoblený obdélník 5"/>
          <p:cNvSpPr/>
          <p:nvPr/>
        </p:nvSpPr>
        <p:spPr>
          <a:xfrm>
            <a:off x="7050240" y="306072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MAZON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Zaoblený obdélník 6"/>
          <p:cNvSpPr/>
          <p:nvPr/>
        </p:nvSpPr>
        <p:spPr>
          <a:xfrm>
            <a:off x="7040520" y="3645000"/>
            <a:ext cx="1873440" cy="431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TLANTSK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Zaoblený obdélník 7"/>
          <p:cNvSpPr/>
          <p:nvPr/>
        </p:nvSpPr>
        <p:spPr>
          <a:xfrm>
            <a:off x="7016760" y="5724360"/>
            <a:ext cx="1873080" cy="4320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IO GR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Zaoblený obdélník 8"/>
          <p:cNvSpPr/>
          <p:nvPr/>
        </p:nvSpPr>
        <p:spPr>
          <a:xfrm>
            <a:off x="7007400" y="6308640"/>
            <a:ext cx="1871640" cy="4334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TLANTSK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Zaoblený obdélník 9"/>
          <p:cNvSpPr/>
          <p:nvPr/>
        </p:nvSpPr>
        <p:spPr>
          <a:xfrm>
            <a:off x="7020000" y="450072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ISSISSIP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Zaoblený obdélník 10"/>
          <p:cNvSpPr/>
          <p:nvPr/>
        </p:nvSpPr>
        <p:spPr>
          <a:xfrm>
            <a:off x="7010280" y="5084640"/>
            <a:ext cx="1871640" cy="4320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TLANTSK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o textu se vloudilo několik chyb. Najdi a podtrhni je, poté je správně napiš do připraveného rámečk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99840"/>
            <a:ext cx="4475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verní Amerika má velké množství jezer. Většina je ledovcového původu. Největší je jezero Dolejší, které patří do soustavy Malých kanadských jezer. Tato jezera se rozkládají na hranicích Mexika a USA. Mezi Erijským jezerem a jezerem Ontario leží známé Viktoriiny vodopády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Zaoblený obdélník 3"/>
          <p:cNvSpPr/>
          <p:nvPr/>
        </p:nvSpPr>
        <p:spPr>
          <a:xfrm>
            <a:off x="5148360" y="1700280"/>
            <a:ext cx="3600360" cy="4392720"/>
          </a:xfrm>
          <a:custGeom>
            <a:avLst/>
            <a:gdLst>
              <a:gd name="textAreaLeft" fmla="*/ 175680 w 3600360"/>
              <a:gd name="textAreaRight" fmla="*/ 3424680 w 3600360"/>
              <a:gd name="textAreaTop" fmla="*/ 175680 h 4392720"/>
              <a:gd name="textAreaBottom" fmla="*/ 4217040 h 4392720"/>
            </a:gdLst>
            <a:ahLst/>
            <a:rect l="textAreaLeft" t="textAreaTop" r="textAreaRight" b="textAreaBottom"/>
            <a:pathLst>
              <a:path w="21600" h="26353">
                <a:moveTo>
                  <a:pt x="3600" y="0"/>
                </a:moveTo>
                <a:arcTo wR="3600" hR="3600" stAng="16200000" swAng="-5400000"/>
                <a:lnTo>
                  <a:pt x="0" y="22753"/>
                </a:lnTo>
                <a:arcTo wR="3600" hR="3600" stAng="10800000" swAng="-5400000"/>
                <a:lnTo>
                  <a:pt x="18000" y="263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o textu se vloudilo několik chyb. Najdi a podtrhni je, poté je správně napiš do připraveného rámečk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599840"/>
            <a:ext cx="4475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verní Amerika má velké množství jezer. Většina je ledovcového původu. Největší je jezer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Times New Roman"/>
              </a:rPr>
              <a:t>Dolejší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které patří do soustavy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Times New Roman"/>
              </a:rPr>
              <a:t>Malých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kanadských jezer. Tato jezera se rozkládají na hranicích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Times New Roman"/>
              </a:rPr>
              <a:t>Mexik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 USA. Mezi Erijským jezerem a jezerem Ontario leží známé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Times New Roman"/>
              </a:rPr>
              <a:t>Viktoriin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vodopády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Zaoblený obdélník 3"/>
          <p:cNvSpPr/>
          <p:nvPr/>
        </p:nvSpPr>
        <p:spPr>
          <a:xfrm>
            <a:off x="5148360" y="1700280"/>
            <a:ext cx="3600360" cy="4392720"/>
          </a:xfrm>
          <a:custGeom>
            <a:avLst/>
            <a:gdLst>
              <a:gd name="textAreaLeft" fmla="*/ 175680 w 3600360"/>
              <a:gd name="textAreaRight" fmla="*/ 3424680 w 3600360"/>
              <a:gd name="textAreaTop" fmla="*/ 175680 h 4392720"/>
              <a:gd name="textAreaBottom" fmla="*/ 4217040 h 4392720"/>
            </a:gdLst>
            <a:ahLst/>
            <a:rect l="textAreaLeft" t="textAreaTop" r="textAreaRight" b="textAreaBottom"/>
            <a:pathLst>
              <a:path w="21600" h="26353">
                <a:moveTo>
                  <a:pt x="3600" y="0"/>
                </a:moveTo>
                <a:arcTo wR="3600" hR="3600" stAng="16200000" swAng="-5400000"/>
                <a:lnTo>
                  <a:pt x="0" y="22753"/>
                </a:lnTo>
                <a:arcTo wR="3600" hR="3600" stAng="10800000" swAng="-5400000"/>
                <a:lnTo>
                  <a:pt x="18000" y="263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ŘEJŠ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ELKÝ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AN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IAGARSKÉ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Křížovka - zadán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3573360"/>
            <a:ext cx="9144000" cy="32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.Řeka protékající New York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. Záliv s vysokým rozdílem výšky hladiny přílivu a odliv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. Bolívijské vysokohorské jez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. Jezero na Floridě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5. Lagunou hrazené jezero ve Venezue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6. Průliv mezi Amerikou a Antarktido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7. Nádrž, přes niž vede Panamský průpla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8. Záliv, do nějž ústí řeka Paran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9. Nejdelší a nejvodnatější řeka svě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0. Průliv mezi pol. Yucatán a ostrovem Kub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1. Nejznámější severoamerické vodopád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4407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řížovka - řeš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414972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 je to Supervulk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ím světu hrozí Yellowstone?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ilmová fikce: Obří vulkán vybuch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ideo on YouT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871236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files.imadlenka.webnode.cz/200000282-bbf13bceb5/Amerika-slepa_mapa.PNG"/>
          <p:cNvPicPr/>
          <p:nvPr/>
        </p:nvPicPr>
        <p:blipFill>
          <a:blip r:embed="rId1"/>
          <a:stretch/>
        </p:blipFill>
        <p:spPr>
          <a:xfrm>
            <a:off x="1835280" y="115920"/>
            <a:ext cx="508464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files.imadlenka.webnode.cz/200000282-bbf13bceb5/Amerika-slepa_mapa.PNG"/>
          <p:cNvPicPr/>
          <p:nvPr/>
        </p:nvPicPr>
        <p:blipFill>
          <a:blip r:embed="rId1"/>
          <a:stretch/>
        </p:blipFill>
        <p:spPr>
          <a:xfrm>
            <a:off x="2411280" y="1268280"/>
            <a:ext cx="4145040" cy="5400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meriku omývají 3 oceán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ichý (Pacifik), Atlantský, Severní ledov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004400"/>
            <a:ext cx="32036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Části  světového oceán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eringovo moř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eringův průl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eaufertovo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udsonův zál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abradorské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lifornský zál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exický zál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argasové moř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ribské moř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namský průpl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a Pl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galhãesův průl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ljašský zál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rakeův průl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liv Fun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516720" y="1268280"/>
            <a:ext cx="2627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ez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elké Medvědí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elké Otročí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Winnipežské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. Titica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elká jez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Hořejší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Huronské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Michiganské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Erijské j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j. On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) Maracaibské j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files.imadlenka.webnode.cz/200000282-bbf13bceb5/Amerika-slepa_mapa.PNG"/>
          <p:cNvPicPr/>
          <p:nvPr/>
        </p:nvPicPr>
        <p:blipFill>
          <a:blip r:embed="rId1"/>
          <a:stretch/>
        </p:blipFill>
        <p:spPr>
          <a:xfrm>
            <a:off x="3780000" y="0"/>
            <a:ext cx="5278320" cy="6877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-100080"/>
            <a:ext cx="4495680" cy="71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Řek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verní Amerik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ississippi (-Missou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cken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Yuk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ka Sv. Vavř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io Gr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olo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ižní Amerik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mazonka (přítoky: Tapajós, Xingu, Madei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raná a Paragu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rino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odopá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verní Amerik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iagarské vodopá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ižní Amerik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gelův vodopá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odopády Iguaç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http://www.neystadt.org/john/album/canada/niagara-waterfalls.jpg"/>
          <p:cNvPicPr/>
          <p:nvPr/>
        </p:nvPicPr>
        <p:blipFill>
          <a:blip r:embed="rId1"/>
          <a:stretch/>
        </p:blipFill>
        <p:spPr>
          <a:xfrm>
            <a:off x="152280" y="152280"/>
            <a:ext cx="4191120" cy="2784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-720" y="294480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IMNÍ NIAG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http://www.venezuela.cz/photos/angel-falls-01.jpg"/>
          <p:cNvPicPr/>
          <p:nvPr/>
        </p:nvPicPr>
        <p:blipFill>
          <a:blip r:embed="rId2"/>
          <a:stretch/>
        </p:blipFill>
        <p:spPr>
          <a:xfrm>
            <a:off x="2209680" y="3276720"/>
            <a:ext cx="2286000" cy="3382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213480" y="6110280"/>
            <a:ext cx="16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DĚLSK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ODOPÁ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9" descr="http://www.gltours.com/Countries/Pics/brazil-foz%20do%20iguacu.jpg"/>
          <p:cNvPicPr/>
          <p:nvPr/>
        </p:nvPicPr>
        <p:blipFill>
          <a:blip r:embed="rId3"/>
          <a:stretch/>
        </p:blipFill>
        <p:spPr>
          <a:xfrm>
            <a:off x="4648320" y="1905120"/>
            <a:ext cx="4495680" cy="3047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"/>
          <p:cNvSpPr/>
          <p:nvPr/>
        </p:nvSpPr>
        <p:spPr>
          <a:xfrm>
            <a:off x="5562360" y="4952880"/>
            <a:ext cx="26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ODOPÁDY IGUAC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http://www.r-vision.cz/images/usa/10%20Salt%20Lake%20City/023%20Great%20Salt%20Lake.jpg"/>
          <p:cNvPicPr/>
          <p:nvPr/>
        </p:nvPicPr>
        <p:blipFill>
          <a:blip r:embed="rId1"/>
          <a:stretch/>
        </p:blipFill>
        <p:spPr>
          <a:xfrm>
            <a:off x="0" y="0"/>
            <a:ext cx="4386240" cy="3286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720" y="320040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ELKÉ SOLNÉ JE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http://www.everestnews2004.com/4002expcoverage/pictures/pm-2%20Lake%20Titicaca.jpg"/>
          <p:cNvPicPr/>
          <p:nvPr/>
        </p:nvPicPr>
        <p:blipFill>
          <a:blip r:embed="rId2"/>
          <a:stretch/>
        </p:blipFill>
        <p:spPr>
          <a:xfrm>
            <a:off x="2819520" y="3352680"/>
            <a:ext cx="4800600" cy="3200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2820240" y="646128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ZERO TITICA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9" descr="http://www.boatnerd.com/news/newpictures03/003.Lake-Superior.jpg"/>
          <p:cNvPicPr/>
          <p:nvPr/>
        </p:nvPicPr>
        <p:blipFill>
          <a:blip r:embed="rId3"/>
          <a:stretch/>
        </p:blipFill>
        <p:spPr>
          <a:xfrm>
            <a:off x="4724280" y="0"/>
            <a:ext cx="4114800" cy="3087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6959880" y="304812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OŘEJŠÍ JE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0" descr=""/>
          <p:cNvPicPr/>
          <p:nvPr/>
        </p:nvPicPr>
        <p:blipFill>
          <a:blip r:embed="rId1"/>
          <a:stretch/>
        </p:blipFill>
        <p:spPr>
          <a:xfrm>
            <a:off x="4290840" y="765000"/>
            <a:ext cx="4967640" cy="496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http://oak.ucc.nau.edu/llc7/Photo%20Albums/Geology/slides/Colorado%20River%20Gooseneck.jpg"/>
          <p:cNvPicPr/>
          <p:nvPr/>
        </p:nvPicPr>
        <p:blipFill>
          <a:blip r:embed="rId2"/>
          <a:stretch/>
        </p:blipFill>
        <p:spPr>
          <a:xfrm>
            <a:off x="-93600" y="0"/>
            <a:ext cx="4441680" cy="6172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5040" y="609588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OLORAD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5729400" y="18900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MA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noho řek je splavných a využívaných k říční plavbě + využití Velkých jezer (atlas str. 30-31, str. 50-51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nohé řeky jsou využívány k výrobě energie (hydroelektrárny) – atlas str. 50-5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krajová moře poskytují nepřeberné bohatství (rybolov, těžba ropy v šelfu, centra turistiky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anamský průplav vybudovaný na začátku 20. století urychlil spojení mezi Tichým a Atlantským oceánem (atlas str. 47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kologicky významné jsou mokřady (JA – Amazonie, Pantanal, SA – Everglade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media.novinky.cz/047/220476-gallery1-8czhv.jpg"/>
          <p:cNvPicPr/>
          <p:nvPr/>
        </p:nvPicPr>
        <p:blipFill>
          <a:blip r:embed="rId1"/>
          <a:stretch/>
        </p:blipFill>
        <p:spPr>
          <a:xfrm>
            <a:off x="0" y="3579840"/>
            <a:ext cx="5840280" cy="3286080"/>
          </a:xfrm>
          <a:prstGeom prst="rect">
            <a:avLst/>
          </a:prstGeom>
          <a:ln w="0">
            <a:noFill/>
          </a:ln>
        </p:spPr>
      </p:pic>
      <p:sp>
        <p:nvSpPr>
          <p:cNvPr id="68" name="TextovéPole 3"/>
          <p:cNvSpPr/>
          <p:nvPr/>
        </p:nvSpPr>
        <p:spPr>
          <a:xfrm>
            <a:off x="5812920" y="2637000"/>
            <a:ext cx="3320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Ekologická katastrofa v Mexickém zálivu vypuk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0. Dubna 2010, kdy explodovala těžební ploši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eepwater Horizon (společnosti BP). Z vrtu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loubce 1500 metrů začala prýštit ropa a její pr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e podařilo zastavit až v polovině červ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o moře se tak dostalo až 650 milionů litrů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uroviny. Ropná havárie byla nejhorší v dějiná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pojených států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Potápějící se ropná plošina Deepwater Horizon"/>
          <p:cNvPicPr/>
          <p:nvPr/>
        </p:nvPicPr>
        <p:blipFill>
          <a:blip r:embed="rId2"/>
          <a:stretch/>
        </p:blipFill>
        <p:spPr>
          <a:xfrm>
            <a:off x="3240" y="-27000"/>
            <a:ext cx="58370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ovéPole 3"/>
          <p:cNvSpPr/>
          <p:nvPr/>
        </p:nvSpPr>
        <p:spPr>
          <a:xfrm>
            <a:off x="5390640" y="1916280"/>
            <a:ext cx="356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Itaipú je druhá nejvýkonnější vodní elektrárna na světě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ozkládá se na hranicích Brazílie a Paraguaye na ře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araná. Pro srovnání její instalovaný výkon je 7x větš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ež u naší jaderné elektrárny Temelí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http://www.rasheedsworld.com/wp/wp-content/uploads/2013/02/Itaipu-dam.jpg"/>
          <p:cNvPicPr/>
          <p:nvPr/>
        </p:nvPicPr>
        <p:blipFill>
          <a:blip r:embed="rId1"/>
          <a:stretch/>
        </p:blipFill>
        <p:spPr>
          <a:xfrm>
            <a:off x="-20520" y="0"/>
            <a:ext cx="5313240" cy="406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i.ck.cz/f/6282/18.jpg"/>
          <p:cNvPicPr/>
          <p:nvPr/>
        </p:nvPicPr>
        <p:blipFill>
          <a:blip r:embed="rId2"/>
          <a:stretch/>
        </p:blipFill>
        <p:spPr>
          <a:xfrm>
            <a:off x="1979640" y="3551400"/>
            <a:ext cx="7164360" cy="3306600"/>
          </a:xfrm>
          <a:prstGeom prst="rect">
            <a:avLst/>
          </a:prstGeom>
          <a:ln w="0">
            <a:noFill/>
          </a:ln>
        </p:spPr>
      </p:pic>
      <p:sp>
        <p:nvSpPr>
          <p:cNvPr id="73" name="TextovéPole 4"/>
          <p:cNvSpPr/>
          <p:nvPr/>
        </p:nvSpPr>
        <p:spPr>
          <a:xfrm>
            <a:off x="-10440" y="5213520"/>
            <a:ext cx="203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plé a čisté vody Karibské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oře jsou turistickým ráj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02:55Z</dcterms:created>
  <dc:creator>kk</dc:creator>
  <dc:description/>
  <dc:language>en-US</dc:language>
  <cp:lastModifiedBy>PC</cp:lastModifiedBy>
  <dcterms:modified xsi:type="dcterms:W3CDTF">2013-09-26T12:22:14Z</dcterms:modified>
  <cp:revision>25</cp:revision>
  <dc:subject/>
  <dc:title>VODSTVO AMERIKY</dc:title>
</cp:coreProperties>
</file>