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DDD-ADA1-4467-87C4-33349D5A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185A-ECEF-474A-96A1-0FF70EA3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19E-82B8-4365-9524-55883F96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0C1-9019-4BB0-A76F-1B8560BE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4E3-3EAC-4A88-A58D-474F4AAB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3E0-B400-49CD-B6F9-EB1FFC09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BB0-8CD7-4DF8-8823-C1630240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8C1-C580-42C4-B530-ADD0B2C1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BED-4D33-4ED0-8AF6-13B7F7B1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515-722E-4701-A7B6-FD6A5AB9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C17E-E89C-4A90-839F-9DC435F6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9DB-AE39-4FD9-B79B-3D166D92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97DF-704E-453A-9F8F-2277CCFC79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US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United States of Ame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http://photos1.blogger.com/blogger/1854/475/1600/usa.jpg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http://www.helsinki.fi/~haonnela/images/NewYork/New_York_1996-Empire-State-building.jpg"/>
          <p:cNvPicPr/>
          <p:nvPr/>
        </p:nvPicPr>
        <p:blipFill>
          <a:blip r:embed="rId1"/>
          <a:stretch/>
        </p:blipFill>
        <p:spPr>
          <a:xfrm>
            <a:off x="152280" y="304920"/>
            <a:ext cx="4046760" cy="6114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ttp://www.atpm.com/7.01/washington-dc/images/white-house-420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www.photography-plus.com/images/Pentagon.jpg"/>
          <p:cNvPicPr/>
          <p:nvPr/>
        </p:nvPicPr>
        <p:blipFill>
          <a:blip r:embed="rId3"/>
          <a:stretch/>
        </p:blipFill>
        <p:spPr>
          <a:xfrm>
            <a:off x="4343400" y="3581280"/>
            <a:ext cx="4800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http://www.usatourist.com/slideshows/texas/images/Houston%20NASA.jpg"/>
          <p:cNvPicPr/>
          <p:nvPr/>
        </p:nvPicPr>
        <p:blipFill>
          <a:blip r:embed="rId1"/>
          <a:stretch/>
        </p:blipFill>
        <p:spPr>
          <a:xfrm>
            <a:off x="380880" y="457200"/>
            <a:ext cx="4038840" cy="301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Image"/>
          <p:cNvPicPr/>
          <p:nvPr/>
        </p:nvPicPr>
        <p:blipFill>
          <a:blip r:embed="rId2"/>
          <a:stretch/>
        </p:blipFill>
        <p:spPr>
          <a:xfrm>
            <a:off x="5029200" y="228600"/>
            <a:ext cx="4114800" cy="6400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ttp://www.estadistica.net/elvis%20presley.jpg"/>
          <p:cNvPicPr/>
          <p:nvPr/>
        </p:nvPicPr>
        <p:blipFill>
          <a:blip r:embed="rId3"/>
          <a:stretch/>
        </p:blipFill>
        <p:spPr>
          <a:xfrm>
            <a:off x="914400" y="3733920"/>
            <a:ext cx="30639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http://creationsafaris.com/photos/B064DeathValleyDunes.jpg"/>
          <p:cNvPicPr/>
          <p:nvPr/>
        </p:nvPicPr>
        <p:blipFill>
          <a:blip r:embed="rId1"/>
          <a:stretch/>
        </p:blipFill>
        <p:spPr>
          <a:xfrm>
            <a:off x="0" y="0"/>
            <a:ext cx="4991040" cy="3305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http://www.teridanielsbooks.com/States/California/San,%20Francisco,%20California,%20Bay,%20Area,%20Golden,%20Gate,%20Bridge,.jpg"/>
          <p:cNvPicPr/>
          <p:nvPr/>
        </p:nvPicPr>
        <p:blipFill>
          <a:blip r:embed="rId2"/>
          <a:stretch/>
        </p:blipFill>
        <p:spPr>
          <a:xfrm>
            <a:off x="5097600" y="380880"/>
            <a:ext cx="4046400" cy="6115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http://www.poxod.com/zhurnal_weekly/56/MT_Whitney.jpg"/>
          <p:cNvPicPr/>
          <p:nvPr/>
        </p:nvPicPr>
        <p:blipFill>
          <a:blip r:embed="rId3"/>
          <a:stretch/>
        </p:blipFill>
        <p:spPr>
          <a:xfrm>
            <a:off x="0" y="3424320"/>
            <a:ext cx="49528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ÁSTIN HISTORIE US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386000"/>
            <a:ext cx="42447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ůvodní obyvatele (Indiáni a Eskymáci) začali od 16. století vytlačovat kolonizátoři z Evropy (Španělé, Holanďané, Angličané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776 podepsáno Prohlášení nezávislosti – vznik USA (13 států) – první prezident G. Washing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oučasným 44. prezidentem je Barack Obama od roku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george_washington_stand"/>
          <p:cNvPicPr/>
          <p:nvPr/>
        </p:nvPicPr>
        <p:blipFill>
          <a:blip r:embed="rId1"/>
          <a:stretch/>
        </p:blipFill>
        <p:spPr>
          <a:xfrm>
            <a:off x="4500720" y="1125360"/>
            <a:ext cx="2970000" cy="403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small_obama_image"/>
          <p:cNvPicPr/>
          <p:nvPr/>
        </p:nvPicPr>
        <p:blipFill>
          <a:blip r:embed="rId2"/>
          <a:stretch/>
        </p:blipFill>
        <p:spPr>
          <a:xfrm>
            <a:off x="6588000" y="3716280"/>
            <a:ext cx="2340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covní 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7280" y="90792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Spojené státy americké (anglicky United States of America zkratka ………………) – hl. město………………………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loha USA (viz. obráze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ozloha je:…………………………………….. počet obyvatel……………………… hustota osídlení…………..ob./km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členitost, povrch a vodstvo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oloostrovy:……………………………………………………………………………………………………………………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ostrovy:………………………………………………………………………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pohoří:……………………………………………………………………………………………….(Mt.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6194m.n.m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) nížiny:……………………………………………………………………………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e) řeky:………………………………………………………………………………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f) jezera:……………………………………………………………………………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g) podnebí:……………………………………………………………………………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Times New Roman"/>
              </a:rPr>
              <a:t>Rozlohou 4 největší, počtem obyvatel 3 nejlidnatější a  hospodářsky nejvyspělejší stát. Tvořený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Times New Roman"/>
              </a:rPr>
              <a:t>federací 50 států 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Times New Roman"/>
              </a:rPr>
              <a:t>– </a:t>
            </a: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aždý má vlastní: ……………………………………………………………………………………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 čele federace stojí: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rezident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(sídlo: B………………………D…………………),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kongres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 (sídlo:K……………………………………….) a 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nejvyšší soud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USA dělíme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 v………………….(města:………………………………………………………………..), s…………………… (města:…………………..…………………………………………………) a z …………………………………………….. (města:……………………………………………………………………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7885080" y="115920"/>
            <a:ext cx="1143000" cy="119052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jisti o US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aká je poloha US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aká je rozloha US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piš členitost, povrch, vodstvo, </a:t>
            </a: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vegetac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jdi hlavní město a další </a:t>
            </a: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velká měst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 víš o </a:t>
            </a: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histori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US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Times New Roman"/>
              </a:rPr>
              <a:t>USA - Washing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Rozlohou 4 největší, počtem obyvatel 3 nejlidnější a  hospodářsky nejvyspělejší stá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Tvořeny federací 50 států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každý má hlavní město, vládu, guvernéra, parlament, ústav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A – demokratický stá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prezident, kongres, nejvyšší sou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brovské rozdíly (osídlení, hospodářství, zemědělství, vzdělanost, příroda….) –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dělíme ji na 3 oblasti: VÝCHOD, STŘED, ZÁP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VÝ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dnebí (mírné až tropické) přímořsk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ver – obrovské soustředění průmyslu a obchodu (NY, Washington, Chicago, Philadelphia, Bost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ih – převládá zemědělství (plantážnictví) – Miami, Atla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blémy – přelidněná města, životní prostřed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TŘ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dnebí – kontinentální (východ bohatší na srážk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érie – obilnice USA, pastva skot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ntra – Dallas, New Orleans, Hous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blémy – hurikány, rasism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ÁP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voří horské státy (nejvyšší x nejhlubší místa) + Aljaška a Hava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dnebí - pobřeží oceánské (deštivé) x horské vnitrozemí suché s velkými výkyvy tep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elký rozvoj hospodářství (hi-tech – Silicon Valley) – San Francisco, Los Ange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blémy – nedostatek vody, zemětřesení (zlom San Andre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848720" cy="4487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189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9209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3805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USA – 50 stá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6858000" cy="4286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057400" cy="3029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152280" y="4724280"/>
            <a:ext cx="1886040" cy="1646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991440" y="46483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av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28960" y="2362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ljaš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4:48:07Z</dcterms:created>
  <dc:creator>kk</dc:creator>
  <dc:description/>
  <dc:language>en-US</dc:language>
  <cp:lastModifiedBy>jindra</cp:lastModifiedBy>
  <dcterms:modified xsi:type="dcterms:W3CDTF">2011-11-10T08:45:31Z</dcterms:modified>
  <cp:revision>11</cp:revision>
  <dc:subject/>
  <dc:title>USA United States of America</dc:title>
</cp:coreProperties>
</file>