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757-EB95-43A2-984A-B8B7FFB9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264-7216-4135-9E24-C05BEAB3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A08-1325-464C-9475-CFFF4B95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93E-CBAF-492E-AF1B-45233E1F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7F3-8E5F-4585-BF1C-3C001A7C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643-F5C7-4C8E-A46F-896C26D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E11-05EE-4968-90DB-7808FEA1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3CF-B8E1-4F67-8679-CD293964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B11-059B-4A11-A678-496FFC1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AD8-8A7C-4DD5-90CF-9BDDCCE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109-82D3-443D-8D2C-AE43624A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6BA-8719-4BE0-A357-71D8642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FE35-6D25-4E16-B347-48A8746A3B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v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Grand%20Canyon11"/>
          <p:cNvPicPr/>
          <p:nvPr/>
        </p:nvPicPr>
        <p:blipFill>
          <a:blip r:embed="rId1"/>
          <a:stretch/>
        </p:blipFill>
        <p:spPr>
          <a:xfrm>
            <a:off x="-181080" y="2417760"/>
            <a:ext cx="950616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 Ameriky je podobný. Od západního pobřeží, kterým se táhne pásmo Kordiller (S a Stř.) a And (J), se k východu postupně snižuje do rovin a níž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starší jádra pevnin – centrální roviny a vysoč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mladší třetihorní pohoří – Kordillery, Andy (leží na hranici litosférických desek – vulkanismus, zemětřesení – Tichomořský ohnivý prsten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http://kurz.geologie.sci.muni.cz/obrazky_ucebnice/obrazek4_6.jpg"/>
          <p:cNvPicPr/>
          <p:nvPr/>
        </p:nvPicPr>
        <p:blipFill>
          <a:blip r:embed="rId1"/>
          <a:stretch/>
        </p:blipFill>
        <p:spPr>
          <a:xfrm>
            <a:off x="4352760" y="3573360"/>
            <a:ext cx="4656240" cy="30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http://upload.wikimedia.org/wikipedia/commons/thumb/d/d2/Monte_Aconcagua.jpg/640px-Monte_Aconcagua.jpg"/>
          <p:cNvPicPr/>
          <p:nvPr/>
        </p:nvPicPr>
        <p:blipFill>
          <a:blip r:embed="rId2"/>
          <a:stretch/>
        </p:blipFill>
        <p:spPr>
          <a:xfrm>
            <a:off x="4363920" y="17640"/>
            <a:ext cx="4645080" cy="348264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2"/>
          <p:cNvSpPr/>
          <p:nvPr/>
        </p:nvSpPr>
        <p:spPr>
          <a:xfrm>
            <a:off x="4383720" y="58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4441680" y="367344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homořský ohnivý prsten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verní a Střední Ame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 od západu k východ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ordille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břežní pá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erra Nevada a Kaskádové poho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alnaté hory (Aljašské hory – Mt. McKin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lké plani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entrální rovi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ktická nížina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břežní nížina (J) – Mississippská, Atlants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Appalačské poho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mckinley"/>
          <p:cNvPicPr/>
          <p:nvPr/>
        </p:nvPicPr>
        <p:blipFill>
          <a:blip r:embed="rId1"/>
          <a:stretch/>
        </p:blipFill>
        <p:spPr>
          <a:xfrm>
            <a:off x="4500720" y="3716280"/>
            <a:ext cx="3456000" cy="2797200"/>
          </a:xfrm>
          <a:prstGeom prst="rect">
            <a:avLst/>
          </a:prstGeom>
          <a:ln w="0">
            <a:noFill/>
          </a:ln>
        </p:spPr>
      </p:pic>
      <p:sp>
        <p:nvSpPr>
          <p:cNvPr id="52" name="Line 4"/>
          <p:cNvSpPr/>
          <p:nvPr/>
        </p:nvSpPr>
        <p:spPr>
          <a:xfrm>
            <a:off x="1692360" y="112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1692360" y="1125360"/>
            <a:ext cx="86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692360" y="1125360"/>
            <a:ext cx="9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2411280" y="234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2411280" y="2349360"/>
            <a:ext cx="1224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25800" y="3213000"/>
            <a:ext cx="49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 Podtržené celky zakreslete a zapište do ma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nationalparks-death-valley1"/>
          <p:cNvPicPr/>
          <p:nvPr/>
        </p:nvPicPr>
        <p:blipFill>
          <a:blip r:embed="rId2"/>
          <a:stretch/>
        </p:blipFill>
        <p:spPr>
          <a:xfrm>
            <a:off x="611280" y="377208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59" name="TextovéPole 1"/>
          <p:cNvSpPr/>
          <p:nvPr/>
        </p:nvSpPr>
        <p:spPr>
          <a:xfrm>
            <a:off x="691560" y="38419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dolí smr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"/>
          <p:cNvSpPr/>
          <p:nvPr/>
        </p:nvSpPr>
        <p:spPr>
          <a:xfrm>
            <a:off x="4580280" y="38419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t. McKin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ižní Amer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 od západu k východ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odtržené celky zakreslete a zapište do map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An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Aconcagua) – leží na okraji desek – sopečná aktivita a zemětřesení, náhorní plošina Altiplano (Bolívie a Pe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rinocká nížina, Amazonská nížina (největší říční nížina světa), Laplatská níž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Guyanská vysočina, Brazilská vysoči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olové hory, značné nerostné bohat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atagonská tabu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1"/>
          <a:stretch/>
        </p:blipFill>
        <p:spPr>
          <a:xfrm>
            <a:off x="34920" y="3176640"/>
            <a:ext cx="4324320" cy="324324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2"/>
          <p:cNvSpPr/>
          <p:nvPr/>
        </p:nvSpPr>
        <p:spPr>
          <a:xfrm>
            <a:off x="12960" y="3203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zilská vyso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File:Mt Roraima in Venezuela 001.JPG"/>
          <p:cNvPicPr/>
          <p:nvPr/>
        </p:nvPicPr>
        <p:blipFill>
          <a:blip r:embed="rId2"/>
          <a:stretch/>
        </p:blipFill>
        <p:spPr>
          <a:xfrm>
            <a:off x="4572000" y="317664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66" name="TextovéPole 4"/>
          <p:cNvSpPr/>
          <p:nvPr/>
        </p:nvSpPr>
        <p:spPr>
          <a:xfrm>
            <a:off x="4588560" y="3203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uyanská vyso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4970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YPLŇ SLEPOU MAPU TEXT TI POMŮŽ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ovrch amerického kontinentu je různorodý. Na východě se rozkládají převážně nížiny, na které navazují roviny. Na západě se rozkládá horské pásmo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Kordiller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, které je nejdelším pevninským pohořím na světě. V Severní Americe se Kordillery dělí na několik horských pásem. Na severu se rozkládají Aljašské hory. Kolem 60 °s. š. se Kordillery rozdělují na Skalnaté hory a Pobřežní pásmo, na které navazuje Kaskádové pohoří a pohoří Sierra Nevada. V nejširším místě Kordiller se rozprostírají náhorní plošiny a pánve. Směrem na východ se rozkládají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Vnitřní roviny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(Velké planiny, Centrální roviny aj.). Mezi nejvýznamnější nížiny patří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Arktická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obřež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ississippská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, která se rozkládá podél řeky Mississippi. Na východě se nachází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Appalačské pohoř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, které je geologicky starší než Kordillery. Pro jihoamerické Kordillery se vžil název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And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Na východě se zvedají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Guyanská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Brazilská vysočin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Mezi nejvýznamnější nížiny této části Ameriky patří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Amazonská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Laplatská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ečné opa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sopkám: Mt. Rainier, Popocatepetl, Lascar, přiřaďte následující charaktreristi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ží u města Se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íná se na obratníku Kozoro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ží v Mex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te k sobě názvy hor, pohoří a kó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Kordillery, Kaskádové pohoří, Sierra Nevada, Andy, Appalačské     pohoří, Guyanská vysočina, Brazilská vyso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6 194, 4 418, 2 550, 6 959, 2 810, 3 014, 2 037 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Aconcagua, Mt. McKinley, Mt. Whitney, Mt. Mitchel, St. Helens, Bandeira, Neblin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238880" y="6093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ledek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t. Rainier - leží u města Se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ocatepetl - leží v Mex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scar - vypíná se na obratníku Kozoro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jte k sobě názvy hor, pohoří a kó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dille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t. McKinle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 19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skádové pohoř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t. Helen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 55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erra Nevad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t. Whitne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4 41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concagu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 95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ppalačské pohoř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t. Mitch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 037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uyanská vysoči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bli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3 01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zilská vysoči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andeir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 81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í atlasu najdi odpovědi a do tabulky napiš hledané písmeno, které uvádí čísl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20880" y="1125360"/>
            <a:ext cx="9164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ý záliv na severu Severní Ameriky 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jsevernější poloostrov na území Ameriky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liv oddělující Asii od Severní Ameriky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jvětší ostrov světa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uostroví v karibském moři – Velké…..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Šíje rozdělující Střední a Jižní Ameriku (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hoří pří pobřeží Severní Ameriky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plň název pohoří Sierra …. – v USA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oře omývající Střední Ameriku (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lo ti to? Je t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moře. Zjisti více informa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7"/>
          <p:cNvSpPr/>
          <p:nvPr/>
        </p:nvSpPr>
        <p:spPr>
          <a:xfrm>
            <a:off x="8629560" y="4653000"/>
            <a:ext cx="43344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12"/>
          <p:cNvSpPr/>
          <p:nvPr/>
        </p:nvSpPr>
        <p:spPr>
          <a:xfrm>
            <a:off x="8629560" y="5229360"/>
            <a:ext cx="43344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13"/>
          <p:cNvSpPr/>
          <p:nvPr/>
        </p:nvSpPr>
        <p:spPr>
          <a:xfrm>
            <a:off x="8629560" y="5805360"/>
            <a:ext cx="433440" cy="43200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délník 14"/>
          <p:cNvSpPr/>
          <p:nvPr/>
        </p:nvSpPr>
        <p:spPr>
          <a:xfrm>
            <a:off x="8629560" y="2924280"/>
            <a:ext cx="433440" cy="4334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délník 15"/>
          <p:cNvSpPr/>
          <p:nvPr/>
        </p:nvSpPr>
        <p:spPr>
          <a:xfrm>
            <a:off x="8629560" y="3500280"/>
            <a:ext cx="433440" cy="4334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16"/>
          <p:cNvSpPr/>
          <p:nvPr/>
        </p:nvSpPr>
        <p:spPr>
          <a:xfrm>
            <a:off x="8629560" y="4076640"/>
            <a:ext cx="433440" cy="43200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17"/>
          <p:cNvSpPr/>
          <p:nvPr/>
        </p:nvSpPr>
        <p:spPr>
          <a:xfrm>
            <a:off x="8629560" y="1197000"/>
            <a:ext cx="43344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délník 18"/>
          <p:cNvSpPr/>
          <p:nvPr/>
        </p:nvSpPr>
        <p:spPr>
          <a:xfrm>
            <a:off x="8629560" y="1773360"/>
            <a:ext cx="43344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19"/>
          <p:cNvSpPr/>
          <p:nvPr/>
        </p:nvSpPr>
        <p:spPr>
          <a:xfrm>
            <a:off x="8629560" y="2349360"/>
            <a:ext cx="433440" cy="43200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20"/>
          <p:cNvSpPr/>
          <p:nvPr/>
        </p:nvSpPr>
        <p:spPr>
          <a:xfrm>
            <a:off x="2411280" y="6062760"/>
            <a:ext cx="1800360" cy="35856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í atlasu najdi odpovědi a do tabulky napiš hledané písmeno, které uvádí čísl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20880" y="1125360"/>
            <a:ext cx="9164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ý záliv na severu Severní Ameriky 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jsevernější poloostrov na území Ameriky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liv oddělující Asii od Severní Ameriky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jvětší ostrov světa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uostroví v karibském moři – Velké…..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Šíje rozdělující Střední a Jižní Ameriku (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hoří pří pobřeží Severní Ameriky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plň název pohoří Sierra …. – v USA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oře omývající Střední Ameriku (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lo ti to? Je t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moře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 informa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7"/>
          <p:cNvSpPr/>
          <p:nvPr/>
        </p:nvSpPr>
        <p:spPr>
          <a:xfrm>
            <a:off x="8599320" y="4653000"/>
            <a:ext cx="43200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2"/>
          <p:cNvSpPr/>
          <p:nvPr/>
        </p:nvSpPr>
        <p:spPr>
          <a:xfrm>
            <a:off x="8599320" y="5229360"/>
            <a:ext cx="43200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3"/>
          <p:cNvSpPr/>
          <p:nvPr/>
        </p:nvSpPr>
        <p:spPr>
          <a:xfrm>
            <a:off x="8599320" y="5805360"/>
            <a:ext cx="432000" cy="43200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4"/>
          <p:cNvSpPr/>
          <p:nvPr/>
        </p:nvSpPr>
        <p:spPr>
          <a:xfrm>
            <a:off x="8599320" y="2924280"/>
            <a:ext cx="432000" cy="4334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15"/>
          <p:cNvSpPr/>
          <p:nvPr/>
        </p:nvSpPr>
        <p:spPr>
          <a:xfrm>
            <a:off x="8599320" y="3500280"/>
            <a:ext cx="432000" cy="4334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16"/>
          <p:cNvSpPr/>
          <p:nvPr/>
        </p:nvSpPr>
        <p:spPr>
          <a:xfrm>
            <a:off x="8599320" y="4076640"/>
            <a:ext cx="432000" cy="43200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7"/>
          <p:cNvSpPr/>
          <p:nvPr/>
        </p:nvSpPr>
        <p:spPr>
          <a:xfrm>
            <a:off x="8599320" y="1197000"/>
            <a:ext cx="43200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8"/>
          <p:cNvSpPr/>
          <p:nvPr/>
        </p:nvSpPr>
        <p:spPr>
          <a:xfrm>
            <a:off x="8599320" y="1773360"/>
            <a:ext cx="43200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9"/>
          <p:cNvSpPr/>
          <p:nvPr/>
        </p:nvSpPr>
        <p:spPr>
          <a:xfrm>
            <a:off x="8599320" y="2349360"/>
            <a:ext cx="432000" cy="43200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0"/>
          <p:cNvSpPr/>
          <p:nvPr/>
        </p:nvSpPr>
        <p:spPr>
          <a:xfrm>
            <a:off x="2411280" y="6058080"/>
            <a:ext cx="1800360" cy="35856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ARGAS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7:35:18Z</dcterms:created>
  <dc:creator>kk</dc:creator>
  <dc:description/>
  <dc:language>en-US</dc:language>
  <cp:lastModifiedBy>PC</cp:lastModifiedBy>
  <dcterms:modified xsi:type="dcterms:W3CDTF">2013-09-24T19:08:09Z</dcterms:modified>
  <cp:revision>26</cp:revision>
  <dc:subject/>
  <dc:title>AMERIKA</dc:title>
</cp:coreProperties>
</file>