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59C-9D4A-493E-B878-6B73767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E82-9A1D-45F1-BDA8-E3749D2D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05C-A6C0-4879-845A-EC47E724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4FB-C164-45C1-9987-0821EEDA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26B-9B60-474C-BC4A-A2A7D70F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04B-50F2-424A-9599-96B1DECA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CC2-8030-45B1-A55D-72D5C94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6DB-FC09-49D4-A50B-0459290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2E7-0F4E-4985-86E8-E7D0AB73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5DF-EC3C-4D00-91B5-032D046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2B2-F224-4F8C-9659-2F8D6074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658-12A0-4425-82C0-5D7C7E8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277-D19D-4D4D-B3AE-16B72E94FC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960" y="0"/>
            <a:ext cx="9156600" cy="1125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066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a, rozloha, členi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3076560" y="1197000"/>
            <a:ext cx="29908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pletené pojmy</a:t>
            </a:r>
            <a:br>
              <a:rPr sz="4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mocí atlasu přiřaď k sobě pojmy, které patří k sob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Panam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Mex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Ohňov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Baffinů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) Appalač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) Amazo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) Niagar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) Drakeů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) Hoře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2764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zá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vodopá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prů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)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) je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)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) prů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) polo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) 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) p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největší kontinent (42,2 mil. 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28% rozlohy souše, 8% rozlohy plan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verní Ame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Ame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žní Ame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S2001017181532"/>
          <p:cNvPicPr/>
          <p:nvPr/>
        </p:nvPicPr>
        <p:blipFill>
          <a:blip r:embed="rId1"/>
          <a:stretch/>
        </p:blipFill>
        <p:spPr>
          <a:xfrm>
            <a:off x="231840" y="2852640"/>
            <a:ext cx="3887640" cy="37735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2843280" y="1679400"/>
            <a:ext cx="144360" cy="45720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457200"/>
              <a:gd name="textAreaBottom" fmla="*/ 44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5"/>
                </a:cubicBezTo>
                <a:lnTo>
                  <a:pt x="10800" y="8615"/>
                </a:lnTo>
                <a:cubicBezTo>
                  <a:pt x="10800" y="9708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5"/>
                </a:cubicBezTo>
                <a:lnTo>
                  <a:pt x="10800" y="19415"/>
                </a:lnTo>
                <a:cubicBezTo>
                  <a:pt x="10800" y="205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10680" y="16714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huantepecká ší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25440" y="21366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anamská ší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panama-canal"/>
          <p:cNvPicPr/>
          <p:nvPr/>
        </p:nvPicPr>
        <p:blipFill>
          <a:blip r:embed="rId2"/>
          <a:stretch/>
        </p:blipFill>
        <p:spPr>
          <a:xfrm>
            <a:off x="4211640" y="3645000"/>
            <a:ext cx="4681440" cy="30747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843280" y="2136600"/>
            <a:ext cx="144360" cy="45720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457200"/>
              <a:gd name="textAreaBottom" fmla="*/ 44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5"/>
                </a:cubicBezTo>
                <a:lnTo>
                  <a:pt x="10800" y="8615"/>
                </a:lnTo>
                <a:cubicBezTo>
                  <a:pt x="10800" y="9708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5"/>
                </a:cubicBezTo>
                <a:lnTo>
                  <a:pt x="10800" y="19415"/>
                </a:lnTo>
                <a:cubicBezTo>
                  <a:pt x="10800" y="205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-9360" y="-360"/>
            <a:ext cx="915336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ZLOHA A PO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Soubor: Panama Canal Gatun zámky (na druhou) jpg."/>
          <p:cNvPicPr/>
          <p:nvPr/>
        </p:nvPicPr>
        <p:blipFill>
          <a:blip r:embed="rId3"/>
          <a:stretch/>
        </p:blipFill>
        <p:spPr>
          <a:xfrm>
            <a:off x="5853240" y="1268280"/>
            <a:ext cx="312552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9360" y="-360"/>
            <a:ext cx="915336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LOHA A 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840" y="1052640"/>
            <a:ext cx="9128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a je rozlehlý kontinent, když v New Yorku děti v 7 hodin vstávají do školy tak v Los Angeles je teprve ….hod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lantický oceán odděluje Ameriku od Evropy. Časový posun je značný. Naši fotbalisté nastupují v Rio de Janeiru ke svému zápasu ve 20 hodin. V kolik hodin usedneme u telev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překonávání obrovských vzdáleností v USA často využívají letadla a není se čemu divit. Jaká je vzdálenost mezi LA a 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9360" y="-360"/>
            <a:ext cx="915336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LOHA A 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840" y="1052640"/>
            <a:ext cx="9128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merika je rozlehlý kontinent, když v New Yorku děti v 7 hodin vstávají do školy tak v Los Angeles jsou teprv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 hodi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lantický oceán odděluje Ameriku od Evropy. Časový posun je značný. Naši fotbalisté nastupují v Rio de Janeiru ke svému zápasu ve 20 hod. V kolik hodin usedneme u TV?        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 půlnoc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překonávání obrovských vzdáleností v USA často využívají letadla a není se čemu divit. Jaká je vzdálenost mezi LA a NY?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2923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ý kontinent je Americe nejblíž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kterých polokoulích se rozkládá Amer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kreslete rovník, obratníky  (kudy prochází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ypiš nejzazší body Ameriky (S, J, V, 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5557680" y="1125360"/>
            <a:ext cx="3407040" cy="5651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-9360" y="-360"/>
            <a:ext cx="915336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LOHA A 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Nadpis 5"/>
          <p:cNvSpPr/>
          <p:nvPr/>
        </p:nvSpPr>
        <p:spPr>
          <a:xfrm>
            <a:off x="3240" y="0"/>
            <a:ext cx="9140760" cy="907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LENIT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oznáš z výřezů map členitost Amer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4485960" cy="26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2333880" cy="341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676840" y="1413000"/>
            <a:ext cx="2400480" cy="109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3198960" y="4076640"/>
            <a:ext cx="2438280" cy="21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423720" y="3789360"/>
            <a:ext cx="2419560" cy="2933640"/>
          </a:xfrm>
          <a:prstGeom prst="rect">
            <a:avLst/>
          </a:prstGeom>
          <a:ln w="0">
            <a:noFill/>
          </a:ln>
        </p:spPr>
      </p:pic>
      <p:sp>
        <p:nvSpPr>
          <p:cNvPr id="69" name="TextovéPole 5"/>
          <p:cNvSpPr/>
          <p:nvPr/>
        </p:nvSpPr>
        <p:spPr>
          <a:xfrm>
            <a:off x="385200" y="109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11"/>
          <p:cNvSpPr/>
          <p:nvPr/>
        </p:nvSpPr>
        <p:spPr>
          <a:xfrm>
            <a:off x="482040" y="389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12"/>
          <p:cNvSpPr/>
          <p:nvPr/>
        </p:nvSpPr>
        <p:spPr>
          <a:xfrm>
            <a:off x="3242880" y="409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13"/>
          <p:cNvSpPr/>
          <p:nvPr/>
        </p:nvSpPr>
        <p:spPr>
          <a:xfrm>
            <a:off x="5679720" y="144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14"/>
          <p:cNvSpPr/>
          <p:nvPr/>
        </p:nvSpPr>
        <p:spPr>
          <a:xfrm>
            <a:off x="6116400" y="600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-360"/>
            <a:ext cx="914076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LENIT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341360"/>
            <a:ext cx="885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Ň DO SLEPÉ M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znač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loostrovy: Aljaška, Kalifornský, Patagonie, Yucatán, Florida, Nové Skotsko, Labrad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znač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ostrovy: Grónsko, Baffinův, Ostrovy královny Alžběty, Aleuty, Galapágy, Ohňová země, Falklandy, Velké Antily (Kuba, Haiti, Portoriko, Jamajka), Malé Antily, Bahamy, Newfound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terému států patří Grónsk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4:47:23Z</dcterms:created>
  <dc:creator>kk</dc:creator>
  <dc:description/>
  <dc:language>en-US</dc:language>
  <cp:lastModifiedBy>Uživatel</cp:lastModifiedBy>
  <dcterms:modified xsi:type="dcterms:W3CDTF">2013-09-05T21:34:25Z</dcterms:modified>
  <cp:revision>22</cp:revision>
  <dc:subject/>
  <dc:title>AMERIKA</dc:title>
</cp:coreProperties>
</file>