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1E2-9EEE-4A30-B502-AE45C4B2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DAB-4172-4A65-941D-8F62B291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5AB-975B-42A0-9D15-2ED455E5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EA3-8912-43DB-A782-F1C3C44F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5FD-6C8B-4F0F-8E27-F6E76C8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2F1-59E9-48D2-8BD2-3E06BC97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F47-DE9E-4432-BDAC-00ABF78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49E-707E-48FA-A6D3-0C9C14A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2B8-9314-47C8-AD06-A2ED2D64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6D2-0814-4998-B7E1-5851E17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EAC-6757-47C7-9D7C-714E3B9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E41-473E-4AC3-8716-0BF378D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7DE7-CA3E-4545-84F3-C79233EEE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eI7y9s0CuM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weI7y9s0C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NEBÍ AME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421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2421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6600" y="6453360"/>
            <a:ext cx="35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liknutím na obrázky spustíte video – hurikány a torná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453960"/>
            <a:ext cx="78487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353880"/>
            <a:ext cx="792000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merická nej – teplot a sráž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Teplo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verní Amerika: +57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Death Valley, -78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Fort Good Ho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ižní Amerika: +49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Rivadavia, -33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Sar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Times New Roman"/>
              </a:rPr>
              <a:t>Srážk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verní Amerika: Eureka 69 mm, Ketchikan 3830 m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ižní Amerika: Arica 1 mm, Buenaventura 7155 m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ý je rozdíl mezi počasím a podnebí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časí – aktuální sta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dnebí (klima) – dlouhodobý průměrný režim počas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01038_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075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é znáte podnebné činite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měpisná šířka (na rovníku vyšší srážky a vyšší teplo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mořská výška (čím vyšší nadmořská výška tím nižší teplo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zdálenost od moře (přímořské x kontinentáln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ěr a síla převládajících větr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řské proudy (teplé x studen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 povrchu (směr a výška pohoř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PISNÁ ŠÍŘ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ka je rozložena v poledníkovém směru (zastoupeny jsou tak všechny klimatické/podnebné pás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439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DMOŘSKÁ VÝŠ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radby Kordiller a And zabraňují pronikání vlhkého vzduchu nad pevn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ižování teploty s nadmořskou výškou (0,5 stupně na 100 výškových metr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šková pásmovit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2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ĚR A SÍLA VĚT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idelné větry – SV a JV pasáty + západní proud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pravidelné vět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riká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tropická větrná smršť v lét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ná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lizar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něhová bouře v zim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mper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tudené bouře v zim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62720" y="3780000"/>
            <a:ext cx="33526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ŘSKÉ PROUDY – ovlivňují množství srážek a teplo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P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: Golfs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JA: Brazils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: Labradorský, Kaliforns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JA: Peruáns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3400" y="2611440"/>
            <a:ext cx="38098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erika – vegetace (fauna a fló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41440" cy="243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3327480" cy="249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3405240" cy="221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266364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796000" y="4292640"/>
            <a:ext cx="30351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0:03:36Z</dcterms:created>
  <dc:creator>kk</dc:creator>
  <dc:description/>
  <dc:language>en-US</dc:language>
  <cp:lastModifiedBy>jj</cp:lastModifiedBy>
  <dcterms:modified xsi:type="dcterms:W3CDTF">2009-10-30T07:01:58Z</dcterms:modified>
  <cp:revision>18</cp:revision>
  <dc:subject/>
  <dc:title>PODNEBÍ AMERIKY</dc:title>
</cp:coreProperties>
</file>