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E4C-35AA-4B60-88A2-6C38DD21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185-C2E2-4C9A-B864-4EB182D3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D8D-E342-4927-A5C0-C01758E4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F1F-48B5-4068-87FF-72C2D37D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73C-9E10-470E-BE0D-7F348BDE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355-2112-4660-9CC6-A8F4CAB9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18A-489A-49DF-BA80-C568ED0E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089-8A9D-4740-B549-54E14F27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CBF-9B53-4683-9146-C3CB94C6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8AF-389D-4FF4-8846-14CD5D5E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D4F-8253-409A-B39B-82D2EA9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6DD-7B16-447A-8E4A-1AB4AD7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9783-DB8A-471C-9E8F-F1E84DD3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ŽNÍ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“ andské st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rodní podmín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plňují nížiny (Amazonská, Orinocká a Laplatská) a vysočiny (Guyanská a Brazilská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onem protékají významné řeky (Amazonka, Orinoko, Paran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ětšina států leží v tropickém pás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ropy, savan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odář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6304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to státy své hospodářství teprve buduj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ejvyspělejším státem je Brazíli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áty bohaté na neros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uxit, ropa, barevné kovy), proto se nejvíce rozvíjí průmysl – těžební, chemický, hutní, strojní a dřevařsk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emědělství je vhodné pro pěstování tropických a subtropických plod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káva, kakao, bavlna, tabák, ananas, citrusy, cukrová třtina), důležitý je rybolov a těžba vzácného dře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yvatel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Běloši a míšenc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úřední řečí je španělština, portugalština (Bra.), francouzština (Fr. Guyana), holandština (Surinam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ty mají vysoký přirozený přírůst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Hustě zalidněné pobřeží x liduprázdné vnitrozem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Brazílie (Brasília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elké množství nerostů, průmyslově zemědělský stát (káva, kakao, banány, rybolov, těžba dřeva, kauču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70% obyvatel žije ve městech ( např. Rio de Janeiro, Sao Paulo, Recife, Mana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tatní státy (zjisti samostatně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zev st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 mě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řední 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a zajímav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7:29:26Z</dcterms:created>
  <dc:creator>kk</dc:creator>
  <dc:description/>
  <dc:language>en-US</dc:language>
  <cp:lastModifiedBy>kk</cp:lastModifiedBy>
  <dcterms:modified xsi:type="dcterms:W3CDTF">2006-12-10T18:09:53Z</dcterms:modified>
  <cp:revision>7</cp:revision>
  <dc:subject/>
  <dc:title>JIŽNÍ AMERIKA</dc:title>
</cp:coreProperties>
</file>