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82A-BE65-431B-8FCF-02A1294B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ADC-5040-47A2-B5A9-817744A2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9B8-A363-47E4-9CAF-037B4A18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AA5-DCEA-4FCF-B42B-C1715CBA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C1C-9780-4536-B206-9C5FC1B1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B42-5F07-452D-A45A-D649F1FF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9EF-3C67-48F7-97A8-8964D386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90E-2BFC-4199-8FE6-FCF93E04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143-F68A-4A63-A6B0-31A340B1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675-4653-4E03-843B-84B52702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79A-E5DA-44A7-8836-083C9628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94E-7D10-4149-968A-0C1E1C12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A7E3-0142-45AA-A864-7FD286A14E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1295280" y="0"/>
            <a:ext cx="6782040" cy="5049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BYVATELSTVO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MER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http://www.mdw.frankfurt.de/sammlung/img/Amerika-map.gif"/>
          <p:cNvPicPr/>
          <p:nvPr/>
        </p:nvPicPr>
        <p:blipFill>
          <a:blip r:embed="rId1"/>
          <a:stretch/>
        </p:blipFill>
        <p:spPr>
          <a:xfrm>
            <a:off x="1981080" y="1523880"/>
            <a:ext cx="455004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Line 6"/>
          <p:cNvSpPr/>
          <p:nvPr/>
        </p:nvSpPr>
        <p:spPr>
          <a:xfrm>
            <a:off x="1676520" y="1447920"/>
            <a:ext cx="1523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H="1">
            <a:off x="4876920" y="213372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4190760" y="2819520"/>
            <a:ext cx="38098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 flipH="1" flipV="1">
            <a:off x="3733560" y="3733560"/>
            <a:ext cx="43434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366480" y="990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ŮVODNÍ OBYVATELÉ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247800" y="175248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IKING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861960" y="312408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VROPA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862680" y="48769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FRIČA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STUPNÉ OSÍDLOVÁNÍ AMERI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9907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časné složení obyvatel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5486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s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bílá (přistěhovalci z Evro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žlutá (indiáni, eskymáci – původ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černá (přivlečení z Afrik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míšenci (zambo, mestik, mu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Hustota osídlení nerovnoměrn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ovlivněna přírodními podmínkami+velká měs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) Celkem 724 mil. obyvatel, hustota zalidnění 17 ob./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7" descr="indians4b"/>
          <p:cNvPicPr/>
          <p:nvPr/>
        </p:nvPicPr>
        <p:blipFill>
          <a:blip r:embed="rId1"/>
          <a:stretch/>
        </p:blipFill>
        <p:spPr>
          <a:xfrm>
            <a:off x="0" y="4348080"/>
            <a:ext cx="6516720" cy="250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20071005093547!Inuit_man_1906"/>
          <p:cNvPicPr/>
          <p:nvPr/>
        </p:nvPicPr>
        <p:blipFill>
          <a:blip r:embed="rId2"/>
          <a:stretch/>
        </p:blipFill>
        <p:spPr>
          <a:xfrm>
            <a:off x="6010200" y="2116080"/>
            <a:ext cx="3133800" cy="446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6010200" y="189000"/>
            <a:ext cx="22892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byvatelstvo Ameriky (zápi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lkem 724 mil. obyvatel (bílí, černí, žlutí obyv. + míšenci), husté osídlení jen na SV USA a LaP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sídlován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ůvodní obyvatelstvo (Indiáni, Eskymáci – z Asi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znamné říše (Inkové, Aztékové, Mayov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vropan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olonisté (Španělé, Portugalci – JA, Angličané, Francouzi – 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stěhovalci (20. stolet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) Afričané – otr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blémy: rasismus, osídlení (řídké x velkoměsta), vymizení původních obyvatel, chudoba (slumy, favelas – chudinské čtvrti), emigrace (do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ráce s atlas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56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ké jsou nejrozšířenější jazyky v Americe a jaké jsou příčiny jejich rozšíření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ká náboženství jsou v Americe nejvíce zastoupen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ej oblasti s vysokou a naopak s nízkou hustotou zalidnění? Pokus se zdůvodnit příči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ej nejlidnatější města a aglomerace Ameriky: New York,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ã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aulo, Ciudad de México, Buenos Aires, Rio de Janeiro, Los Ang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jisti ve které části Ameriky je nejnižší a nejvyšší přirozený přírůstek obyvat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ŮVODNÍ OBYVATEL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svojování zahájili předkové indiánů a eskymáků před 30 tis. lety (od S k 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znikly tak některé významné a mocné říš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ko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ayov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ztéko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http://mujweb.cz/veda/civil/mapa-cela.jpg"/>
          <p:cNvPicPr/>
          <p:nvPr/>
        </p:nvPicPr>
        <p:blipFill>
          <a:blip r:embed="rId1"/>
          <a:stretch/>
        </p:blipFill>
        <p:spPr>
          <a:xfrm>
            <a:off x="4419720" y="1371600"/>
            <a:ext cx="4568760" cy="502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w1.317.telia.com/~u31707465/images/machu_piccu.jpg"/>
          <p:cNvPicPr/>
          <p:nvPr/>
        </p:nvPicPr>
        <p:blipFill>
          <a:blip r:embed="rId2"/>
          <a:stretch/>
        </p:blipFill>
        <p:spPr>
          <a:xfrm>
            <a:off x="1981080" y="4419720"/>
            <a:ext cx="3397320" cy="223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http://aztekove.aztekove.cz/images/buh_xiuhtecuhtli2.jpg"/>
          <p:cNvPicPr/>
          <p:nvPr/>
        </p:nvPicPr>
        <p:blipFill>
          <a:blip r:embed="rId3"/>
          <a:stretch/>
        </p:blipFill>
        <p:spPr>
          <a:xfrm>
            <a:off x="7429680" y="9144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IKINGOV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vní Evropané, kteří dosáhli pobřeží Severní Ameriky kolem roku 1000, byli Vikingové z Island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http://www.astrologycom.com/images/vikings.jpg"/>
          <p:cNvPicPr/>
          <p:nvPr/>
        </p:nvPicPr>
        <p:blipFill>
          <a:blip r:embed="rId1"/>
          <a:stretch/>
        </p:blipFill>
        <p:spPr>
          <a:xfrm>
            <a:off x="5334120" y="1905120"/>
            <a:ext cx="2286000" cy="302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koktejl.czech-press.cz/preview/1997/11/138.jpg"/>
          <p:cNvPicPr/>
          <p:nvPr/>
        </p:nvPicPr>
        <p:blipFill>
          <a:blip r:embed="rId2"/>
          <a:stretch/>
        </p:blipFill>
        <p:spPr>
          <a:xfrm>
            <a:off x="609480" y="4419720"/>
            <a:ext cx="3429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VROPAN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jevení K. Kolumbus (12. října 149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 16. století začínají Evropané pronikat do nitra Ameriky (kolonizac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panělé a Portugalci  (ji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ritové a Francouzi (se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)  Přistěhovalectví v období světových vál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http://www.lsg.musin.de/Geschichte/gesch_Karten/kolumb7.gif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305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sopka.cz/dbimg/gallery/0/nahled/210966.jpg"/>
          <p:cNvPicPr/>
          <p:nvPr/>
        </p:nvPicPr>
        <p:blipFill>
          <a:blip r:embed="rId2"/>
          <a:stretch/>
        </p:blipFill>
        <p:spPr>
          <a:xfrm>
            <a:off x="5334120" y="2925720"/>
            <a:ext cx="22860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FRIČAN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dostatek pracovních sil byl řešen dovozem otroků z Afri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troctví zrušeno v roce 1865, ale diskriminace a rasismus byly „překonány“ mnohem později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http://i.esmas.com/image/0/000/002/833/kukluxklan_N.jpg"/>
          <p:cNvPicPr/>
          <p:nvPr/>
        </p:nvPicPr>
        <p:blipFill>
          <a:blip r:embed="rId1"/>
          <a:stretch/>
        </p:blipFill>
        <p:spPr>
          <a:xfrm>
            <a:off x="2590920" y="426708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www.montana.edu/tlecain/images/Malcolm%20X%20speaking.jpg"/>
          <p:cNvPicPr/>
          <p:nvPr/>
        </p:nvPicPr>
        <p:blipFill>
          <a:blip r:embed="rId2"/>
          <a:stretch/>
        </p:blipFill>
        <p:spPr>
          <a:xfrm>
            <a:off x="5943600" y="3581280"/>
            <a:ext cx="2422440" cy="32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ttp://web.tiscali.it/ItaliaCuba/images/nave_negr.jpg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17:00Z</dcterms:created>
  <dc:creator>kk</dc:creator>
  <dc:description/>
  <dc:language>en-US</dc:language>
  <cp:lastModifiedBy>PC</cp:lastModifiedBy>
  <dcterms:modified xsi:type="dcterms:W3CDTF">2013-10-20T14:49:03Z</dcterms:modified>
  <cp:revision>19</cp:revision>
  <dc:subject/>
  <dc:title>OBYVATELSTVO AMERIKY</dc:title>
</cp:coreProperties>
</file>