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5D8A-6456-4628-8A40-60F76F306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8CDD-152E-4311-9C45-C977869D9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DA49-30A2-4102-8552-0F73C0B25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359F-E1DF-4DD9-9685-7A074616D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547D-8026-41AA-BAC3-365E21745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2568-5F15-423C-9DAC-3B95D83FA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062D-DDA7-44B3-8312-68CE8BA1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3082-1E32-4975-BC37-8EC19402C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AF09-D8AB-4960-84EC-B98AF7DBC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1921-8F7A-47B0-8294-5455694A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A229-656E-448E-860E-DED58084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63B6-DC6E-4D52-9054-0C404D3F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D536D-B58A-4E26-83A6-3AE70F99C5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57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NA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75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jisti o Kanadě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ká je poloha Kanad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ká je rozloha Kanad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piš povrch, členitost, vodstvo, podnebí a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vegetaci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jdi hlavní město a další velká měs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nada - Ottaw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ruhý největší stát svě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 rozhraní arktického a mírného pás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ízká hustota zalidnění (původní ob. – eskymáci a indiáni) + osadníci z Evropy (Francouzi, Angličané – úřední jazyky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ěsta – Montreal, Toronto, Vancouver, Calgary, Winnipe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Území děleno na 10 provincii a 2 teritoria (největší Quebec, nejnovější Nanavu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brovské zásoby nerostů (uhlí, železná ruda, barevné kovy, ura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yspělá ekonomika – stroj. (auta), chem. (ropa, léky), dřevozpracující, potravinářství (dobytek, pšenice, rybolov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amostatně doplň pomocí učebnice a atlas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9280" y="1514520"/>
            <a:ext cx="896472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amostatná práce – možné řešen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889308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500720" y="189000"/>
            <a:ext cx="4319280" cy="2971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572000" y="3284640"/>
            <a:ext cx="4248000" cy="3179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179280" y="3573360"/>
            <a:ext cx="4176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153280" cy="59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219240"/>
            <a:ext cx="9144000" cy="64195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7T19:40:14Z</dcterms:created>
  <dc:creator>kk</dc:creator>
  <dc:description/>
  <dc:language>en-US</dc:language>
  <cp:lastModifiedBy>jj</cp:lastModifiedBy>
  <dcterms:modified xsi:type="dcterms:W3CDTF">2009-11-11T16:19:55Z</dcterms:modified>
  <cp:revision>6</cp:revision>
  <dc:subject/>
  <dc:title>KANADA</dc:title>
</cp:coreProperties>
</file>