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77B-C628-4FDA-9D89-C711DA9E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03C-4FE3-4B25-AEAC-BD296C7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94-BF04-4A3B-AF63-2B5C3DB0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E5A-F4E6-46A3-A98E-FCDB0A68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D34-8145-47F2-826F-AFD4C7A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D4B-6BE8-4B6E-819E-C479F44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F18-231C-4C8C-90EA-06DD99AC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7CA-9AAA-4D65-BA96-A3DF272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CEF-0B49-4F0D-B629-69AC4F4F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009-95DB-4880-9A74-F7D58C7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C0D-4CDC-4085-8A54-BF0B654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539-493C-42D9-8116-8D57ECB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B66E-77A0-4EB5-A2A8-FC1EDEE8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2.xml"/><Relationship Id="rId6" Type="http://schemas.openxmlformats.org/officeDocument/2006/relationships/image" Target="../media/image7.jpeg"/><Relationship Id="rId7" Type="http://schemas.openxmlformats.org/officeDocument/2006/relationships/slide" Target="slide2.xml"/><Relationship Id="rId8" Type="http://schemas.openxmlformats.org/officeDocument/2006/relationships/image" Target="../media/image8.jpeg"/><Relationship Id="rId9" Type="http://schemas.openxmlformats.org/officeDocument/2006/relationships/slide" Target="slide2.xml"/><Relationship Id="rId10" Type="http://schemas.openxmlformats.org/officeDocument/2006/relationships/image" Target="../media/image9.jpeg"/><Relationship Id="rId11" Type="http://schemas.openxmlformats.org/officeDocument/2006/relationships/slide" Target="slide2.xml"/><Relationship Id="rId12" Type="http://schemas.openxmlformats.org/officeDocument/2006/relationships/image" Target="../media/image10.jpeg"/><Relationship Id="rId13" Type="http://schemas.openxmlformats.org/officeDocument/2006/relationships/slide" Target="slide2.xm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9242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GENTI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ZÍ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573000"/>
            <a:ext cx="67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OVNÁNÍ STÁTŮ JÍŽNÍ AMER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ap of Brazil South America"/>
          <p:cNvPicPr/>
          <p:nvPr/>
        </p:nvPicPr>
        <p:blipFill>
          <a:blip r:embed="rId1"/>
          <a:stretch/>
        </p:blipFill>
        <p:spPr>
          <a:xfrm>
            <a:off x="2146320" y="0"/>
            <a:ext cx="699768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ap of  Argentina, South America"/>
          <p:cNvPicPr/>
          <p:nvPr/>
        </p:nvPicPr>
        <p:blipFill>
          <a:blip r:embed="rId2"/>
          <a:stretch/>
        </p:blipFill>
        <p:spPr>
          <a:xfrm>
            <a:off x="2050920" y="4224240"/>
            <a:ext cx="3959280" cy="263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ap of Argentina, South American Countries"/>
          <p:cNvPicPr/>
          <p:nvPr/>
        </p:nvPicPr>
        <p:blipFill>
          <a:blip r:embed="rId3"/>
          <a:stretch/>
        </p:blipFill>
        <p:spPr>
          <a:xfrm>
            <a:off x="0" y="1216080"/>
            <a:ext cx="20559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ŘAĎ OBRÁZKY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n Affiliation with AllPosters.co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19640" y="3500280"/>
            <a:ext cx="2009520" cy="302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54764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2720" y="333360"/>
            <a:ext cx="1584360" cy="1055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In Affiliation with AllPosters.co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1628640"/>
            <a:ext cx="27910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Amazon Rainforest Map, Amazon Rainforest, Brazil Landforms, Brazil Rainfores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132000" y="907920"/>
            <a:ext cx="285768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184464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884920" y="4221000"/>
            <a:ext cx="232560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24000" y="3573360"/>
            <a:ext cx="26701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ŘAĎ POJM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 pojmy znamenají…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ad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vita Peron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Kubitsch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tuga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ně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va, s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vězí maso a obi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azo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co da Neb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né podne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ické podne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štný p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Pa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2050920" cy="138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016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ŘAĎ POJM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ad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vita Peron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Kubitsch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tuga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ně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va, s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vězí maso a obi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azo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co da Neb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né podne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ické podne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štný p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Pa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800000" cy="121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1800000" cy="1200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2626920" y="1197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148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39640" y="17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0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234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07640" y="2565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285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331640" y="3141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619280" y="3716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0920" y="3933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2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4508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23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34920" y="5013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530064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195640" y="5589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587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616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08000" y="638172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chybějíc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4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456080"/>
            <a:ext cx="90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my Argentin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španělština, Gran Chaco – La Platskou nížinu – Patagonii, mírném, hovězího masa, pampou, mírn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chybějící pojmy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0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my Brazílie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atolické, kopané a karnevalů, 5., železná ruda-černé uhlí-fosfáty, 26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azonské nížině, 70%, Sao Paulo, Portugalců-indiánů-černochů, pšenici a kukuřici, káva-třtina-kakao-pomeranč-banány-hovězí maso, ohrožena nadměrný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cením, portuga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plň chybějící poj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 chybějící pojmy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18:51Z</dcterms:created>
  <dc:creator>jj</dc:creator>
  <dc:description/>
  <dc:language>en-US</dc:language>
  <cp:lastModifiedBy>jj</cp:lastModifiedBy>
  <dcterms:modified xsi:type="dcterms:W3CDTF">2009-12-25T09:00:08Z</dcterms:modified>
  <cp:revision>6</cp:revision>
  <dc:subject/>
  <dc:title>Snímek 1</dc:title>
</cp:coreProperties>
</file>