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3E7-1E89-4CEF-8D3A-AF150584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9930-A5E3-4D99-865F-B8A13DD9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0B24-A673-45FF-9DFC-2032F1D7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69A-A662-4F6C-B8DD-EA460EC5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718-33C7-4621-AC74-8B2DB95E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254-184C-49FE-8811-2F1D285F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960E-DE15-47D3-BEA6-DD682C47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8D3-D895-449F-B309-7FCD3C22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63EE-4FEF-45C1-90A7-3BBFFAB4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197-3060-40F1-85EF-76C6017B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54A-BC79-4572-ABB3-A71855BE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805D-FF83-438B-83F3-6DBA3EE9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D92A-DEAF-41CD-9AC1-2197BCEB6E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bri.kropes.cz/afrika/info/animtext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GETACE AFRI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amib-grande_dune" descr=""/>
          <p:cNvPicPr/>
          <p:nvPr/>
        </p:nvPicPr>
        <p:blipFill>
          <a:blip r:embed="rId1"/>
          <a:stretch/>
        </p:blipFill>
        <p:spPr>
          <a:xfrm>
            <a:off x="0" y="0"/>
            <a:ext cx="4675320" cy="3065400"/>
          </a:xfrm>
          <a:prstGeom prst="rect">
            <a:avLst/>
          </a:prstGeom>
          <a:ln w="0">
            <a:noFill/>
          </a:ln>
        </p:spPr>
      </p:pic>
      <p:pic>
        <p:nvPicPr>
          <p:cNvPr id="43" name="Baobab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4" name="rainforest" descr=""/>
          <p:cNvPicPr/>
          <p:nvPr/>
        </p:nvPicPr>
        <p:blipFill>
          <a:blip r:embed="rId3"/>
          <a:stretch/>
        </p:blipFill>
        <p:spPr>
          <a:xfrm>
            <a:off x="0" y="3643200"/>
            <a:ext cx="4724280" cy="3214800"/>
          </a:xfrm>
          <a:prstGeom prst="rect">
            <a:avLst/>
          </a:prstGeom>
          <a:ln w="0">
            <a:noFill/>
          </a:ln>
        </p:spPr>
      </p:pic>
      <p:pic>
        <p:nvPicPr>
          <p:cNvPr id="45" name="ssSea_view2" descr=""/>
          <p:cNvPicPr/>
          <p:nvPr/>
        </p:nvPicPr>
        <p:blipFill>
          <a:blip r:embed="rId4"/>
          <a:stretch/>
        </p:blipFill>
        <p:spPr>
          <a:xfrm>
            <a:off x="4724280" y="3629160"/>
            <a:ext cx="44197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4572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opický deštný les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Konžská pánev, vzácná dřeva (mahagon, eb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vany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nejrozlehlejší, baobab, 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uště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ukulenty, palma datl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ředomořská vegetace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ever a jih (korkový dub, vavřín aj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+ výšková stupňovit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vegpasy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567320" cy="510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0200" y="59850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VÍCE Z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maluj vegetační oblasti do mapy a doplň chybějící poj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11280" y="1125360"/>
            <a:ext cx="4932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opický deštný les a střídavě vlhký 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 rostlinstvo……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 živočišstvo……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) zemědělské produkty………………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 rostlinstvo……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 živočišstvo……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) zemědělské produkty………………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uště a polopoušt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 rostlinstvo……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 živočišstvo……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) zemědělské produkty………………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tropické rostlinst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 rostlinstvo……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 živočišstvo……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) zemědělské produkty………………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3527640" cy="3414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80000" y="1197000"/>
            <a:ext cx="431640" cy="21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3500280"/>
            <a:ext cx="431640" cy="21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80000" y="2349360"/>
            <a:ext cx="431640" cy="21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4724280"/>
            <a:ext cx="431640" cy="21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maluj vegetační oblasti do mapy a doplň chybějící poj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11280" y="1125360"/>
            <a:ext cx="4932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opický deštný les a střídavě vlhký 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 rostlinstvo: vzácné dřeviny, liá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 živočišstvo: gorila, šimpanz, lem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) zemědělské produkty: káva, kakao, dře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 rostlinstvo: akácie, baobab, trav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 živočišstvo: lev, žirafa, s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) zemědělské produkty: obilniny, past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uště a polopoušt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 rostlinstvo: kaktusy, byl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 živočišstvo: fenek, velbloud, ští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) zemědělské produkty: palma datlová, fí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tropické rostlinst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 rostlinstvo: cypřiš, vavřín, korkový d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 živočišstvo: ibis, volavky, gazela, mak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) zemědělské produkty: bavlník, olivovník, vinná ré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2867040" cy="30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708360" y="1197000"/>
            <a:ext cx="432000" cy="223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708360" y="2319480"/>
            <a:ext cx="503280" cy="210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780000" y="3500280"/>
            <a:ext cx="431640" cy="21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3780000" y="4724280"/>
            <a:ext cx="43164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osmisměrce můžete najít třináct afrických zvířat. Ze zbývajících písmen sestavte jméno afrického státu, kde jsou velké národní park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32764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Řešení: TANZ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3760" y="1484280"/>
            <a:ext cx="3809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V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L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KŮ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Z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LIK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VI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ŽIRA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5184720" cy="3422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88000" y="2637000"/>
            <a:ext cx="0" cy="22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3573360"/>
            <a:ext cx="2881440" cy="172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-360" y="2421000"/>
            <a:ext cx="493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50920" y="2133360"/>
            <a:ext cx="0" cy="19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84000" y="2781360"/>
            <a:ext cx="295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157720"/>
            <a:ext cx="435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55640" y="479736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3573360"/>
            <a:ext cx="28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55280" y="3213000"/>
            <a:ext cx="352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348000" y="4365720"/>
            <a:ext cx="151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140360" y="2997360"/>
            <a:ext cx="0" cy="107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2997360"/>
            <a:ext cx="0" cy="151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403280" y="2276280"/>
            <a:ext cx="3529080" cy="21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j</cp:lastModifiedBy>
  <dcterms:modified xsi:type="dcterms:W3CDTF">2011-05-03T15:26:15Z</dcterms:modified>
  <cp:revision>7</cp:revision>
  <dc:subject/>
  <dc:title>VEGETACE AFRIKY</dc:title>
</cp:coreProperties>
</file>