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9A8-556A-4873-A0B1-84F49A73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83A-4131-4112-BB46-648FEEF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EEE-5A9B-4C7E-9911-B810A4B2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0FE-EEC0-4CD1-885B-E212A5C7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B29-F8B9-4C58-9BB4-28DC92A0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FB3-42DF-4495-B53E-924CF11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0BF-8514-4671-884E-C9807B3F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979-F545-444B-94C7-6447E8E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C7F-381B-4D7E-BDF9-4C60731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28C-0A76-4019-B572-67B0C49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BA7-96D4-435A-8189-48B3040F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0F0-0B67-4D45-87F0-847C3E03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3CAB-1457-4CD0-9793-C3F3ED3B7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slide" Target="slide1.xml"/><Relationship Id="rId6" Type="http://schemas.openxmlformats.org/officeDocument/2006/relationships/image" Target="../media/image3.jpe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PICKÁ AFR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brané stá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160" y="24382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ickou Afriku tvoří 32 států s velmi odlišnými, ale mnoh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 podobnými prvky (přírodní, historické, sociální aj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udan.flag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581280"/>
            <a:ext cx="2514600" cy="1354320"/>
          </a:xfrm>
          <a:prstGeom prst="rect">
            <a:avLst/>
          </a:prstGeom>
          <a:ln w="0">
            <a:noFill/>
          </a:ln>
        </p:spPr>
      </p:pic>
      <p:pic>
        <p:nvPicPr>
          <p:cNvPr id="45" name="ni-lgflag_small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25905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zair_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24480" y="3581280"/>
            <a:ext cx="2522520" cy="1411560"/>
          </a:xfrm>
          <a:prstGeom prst="rect">
            <a:avLst/>
          </a:prstGeom>
          <a:ln w="0">
            <a:noFill/>
          </a:ln>
        </p:spPr>
      </p:pic>
      <p:pic>
        <p:nvPicPr>
          <p:cNvPr id="47" name="eak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66680" y="5257800"/>
            <a:ext cx="2514600" cy="1351080"/>
          </a:xfrm>
          <a:prstGeom prst="rect">
            <a:avLst/>
          </a:prstGeom>
          <a:ln w="0">
            <a:noFill/>
          </a:ln>
        </p:spPr>
      </p:pic>
      <p:pic>
        <p:nvPicPr>
          <p:cNvPr id="48" name="tanzanie_1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52880" y="5257800"/>
            <a:ext cx="252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údán - Chartú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jvětší a nejchudší stát Afriky, pokrytý pouští (Sahe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ap.sudan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71484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sudan_05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830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igérie - La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lidnatější stát Afriky, s obrovskými zásobami 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dateline.lagos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800600" cy="379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raffic3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go (Zair) - Kinsh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ží na S i J polokouli v oblast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opických les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rovskými zásobami nerost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ěď, kobalt, cín, diamanty aj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zaire.kinshasa.2.lg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89412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zaire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86200" cy="258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3200400"/>
            <a:ext cx="304560" cy="22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ňa - Nairob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dý stát rozkládající se na náhorních plošinách – savany (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lanok_foto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3657600" cy="2427480"/>
          </a:xfrm>
          <a:prstGeom prst="rect">
            <a:avLst/>
          </a:prstGeom>
          <a:ln w="0">
            <a:noFill/>
          </a:ln>
        </p:spPr>
      </p:pic>
      <p:pic>
        <p:nvPicPr>
          <p:cNvPr id="66" name="gerenuk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3048120" cy="2121120"/>
          </a:xfrm>
          <a:prstGeom prst="rect">
            <a:avLst/>
          </a:prstGeom>
          <a:ln w="0">
            <a:noFill/>
          </a:ln>
        </p:spPr>
      </p:pic>
      <p:pic>
        <p:nvPicPr>
          <p:cNvPr id="67" name="kenya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305604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10016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enya-map" descr="Kenya search map, copyright Uyaphi.com"/>
          <p:cNvPicPr/>
          <p:nvPr/>
        </p:nvPicPr>
        <p:blipFill>
          <a:blip r:embed="rId4"/>
          <a:stretch/>
        </p:blipFill>
        <p:spPr>
          <a:xfrm>
            <a:off x="6224760" y="3581280"/>
            <a:ext cx="2919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anzanie – Dar es-Salaam, Dodo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 v 60. letech (Rok Afriky) z pevninské Tanganiky a zanzibarského souostroví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ůvod člověka, savany – NP (Serengeti, Ngorongor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anzania_map" descr=""/>
          <p:cNvPicPr/>
          <p:nvPr/>
        </p:nvPicPr>
        <p:blipFill>
          <a:blip r:embed="rId1"/>
          <a:stretch/>
        </p:blipFill>
        <p:spPr>
          <a:xfrm>
            <a:off x="181080" y="2743200"/>
            <a:ext cx="383040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kilimanjaro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4572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5:49:03Z</dcterms:created>
  <dc:creator>kk</dc:creator>
  <dc:description/>
  <dc:language>en-US</dc:language>
  <cp:lastModifiedBy>kk</cp:lastModifiedBy>
  <dcterms:modified xsi:type="dcterms:W3CDTF">2006-04-19T07:10:28Z</dcterms:modified>
  <cp:revision>3</cp:revision>
  <dc:subject/>
  <dc:title>TROPICKÁ AFRIKA</dc:title>
</cp:coreProperties>
</file>