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6D96-081B-4784-8509-E2EB7301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2C71-31E2-45B0-BFE7-BEA7E560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2D9-EEE6-41E4-8A38-7A89C2A7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EF5-7172-4ABF-986F-B33BF21F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34D-E247-45C8-9C1D-41306FFF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450-0F5D-44CF-B096-4C2DC515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CA8-65B1-4B0F-BF81-2C035DDD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003-F190-4848-9CF6-2F1C4BE1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6593-B370-48AC-AE09-F236FB39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F84-5647-4CE6-B62D-10FA20E1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D5B-9ACE-4768-90E3-96FA0225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9B9-CD51-4094-89A4-CB5D336F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262C-F7DA-4545-BEE6-B2FAE6439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884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pická Afrik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8620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lidná a chud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frika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3521160" cy="355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3886200"/>
            <a:ext cx="358164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E73813596497.8659" descr=""/>
          <p:cNvPicPr/>
          <p:nvPr/>
        </p:nvPicPr>
        <p:blipFill>
          <a:blip r:embed="rId2"/>
          <a:stretch/>
        </p:blipFill>
        <p:spPr>
          <a:xfrm>
            <a:off x="533520" y="0"/>
            <a:ext cx="4038480" cy="2930400"/>
          </a:xfrm>
          <a:prstGeom prst="rect">
            <a:avLst/>
          </a:prstGeom>
          <a:ln w="0">
            <a:noFill/>
          </a:ln>
        </p:spPr>
      </p:pic>
      <p:pic>
        <p:nvPicPr>
          <p:cNvPr id="46" name="Ngoro_ls4" descr=""/>
          <p:cNvPicPr/>
          <p:nvPr/>
        </p:nvPicPr>
        <p:blipFill>
          <a:blip r:embed="rId3"/>
          <a:stretch/>
        </p:blipFill>
        <p:spPr>
          <a:xfrm>
            <a:off x="4191120" y="26668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Přírodní pomě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plňte názvy patřící do tropické Afrik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sočina na rovní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lehlá pánev ležící na rovník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yšší hora Afri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last hladu lemující jih Sah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eka ústící do Guinejského záliv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odnatější řeka Afri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hlubší jezero Afri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ětší jezero Afrik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114440" y="76176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_ _ _ _ _ _ _ _ _ _ _ _ vyso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_ _ _ _ _ _  pán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_ _ _ _ _ _ _ _ _ _ 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_ _ _ 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_ _ _ 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_ _ _ 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_ _ _ _ _ _ _ 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_ _ _ _ _ _ _ _ 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Vegetac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Tropický deštný le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– okolí rovníku a Guinejského záliv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Savany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– S i J od tropického lesa, na východě v oblasti vysočin (národní parky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Sahe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– na rozhraní pouště a sav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ahel" descr=""/>
          <p:cNvPicPr/>
          <p:nvPr/>
        </p:nvPicPr>
        <p:blipFill>
          <a:blip r:embed="rId1"/>
          <a:stretch/>
        </p:blipFill>
        <p:spPr>
          <a:xfrm>
            <a:off x="0" y="4038480"/>
            <a:ext cx="579132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ngor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571500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Socioekonomické podmín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Zemědělství –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1 – 2 plodiny tzv. plantážnictví (káva, kakao, olejová palma) – vývo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spodářství –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bohaté zdroje nerostů (ropa, železná ruda, barevné kovy, diamanty). Neexistuje zpracovatelský průmys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yvatelstvo –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černá rasa, kulturní tradice, války – Súdán, Rwanda, Sierra Leone aj., nízká životní úroveň, negramotnost, krátká délka života (35-50 le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t_afrika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3657600" cy="2503440"/>
          </a:xfrm>
          <a:prstGeom prst="rect">
            <a:avLst/>
          </a:prstGeom>
          <a:ln w="0">
            <a:noFill/>
          </a:ln>
        </p:spPr>
      </p:pic>
      <p:pic>
        <p:nvPicPr>
          <p:cNvPr id="56" name="plantaze3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3429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20:19:24Z</dcterms:created>
  <dc:creator>kk</dc:creator>
  <dc:description/>
  <dc:language>en-US</dc:language>
  <cp:lastModifiedBy>kk</cp:lastModifiedBy>
  <dcterms:modified xsi:type="dcterms:W3CDTF">2006-04-11T20:21:04Z</dcterms:modified>
  <cp:revision>2</cp:revision>
  <dc:subject/>
  <dc:title>Tropická Afrika </dc:title>
</cp:coreProperties>
</file>