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1BF-8245-4DAD-8F04-E8AF5CC9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578-F39B-4CE8-BB93-328D1596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B49-AC3C-45D2-9AC0-64474DBE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F3F-03AB-414A-9D9A-6A7013EA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A66-2493-4A22-ABA3-318F560C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A23-ADEB-4FFA-9752-1F3945C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CBA-9CCC-4D66-91A3-98ACE4F7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348-67DA-47EF-AD76-54B1154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230-11AC-42D8-BDD3-0D7AA33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E67-FBD0-4420-9207-BCDED91C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C73-A2C1-4668-9EA7-32CA7B5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07D-C21D-4EE1-881E-DFEB9E6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CF4-69C0-426E-8F6A-112BB6D07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ibik.cz/images/sierra_9t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sibik.cz/images/rwan_2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sibik.cz/images/jar4_t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émy Afriky - chudý ji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0px-Map_sahel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43" name="sierraleone" descr=""/>
          <p:cNvPicPr/>
          <p:nvPr/>
        </p:nvPicPr>
        <p:blipFill>
          <a:blip r:embed="rId2"/>
          <a:stretch/>
        </p:blipFill>
        <p:spPr>
          <a:xfrm>
            <a:off x="3352680" y="1066680"/>
            <a:ext cx="3124440" cy="2482920"/>
          </a:xfrm>
          <a:prstGeom prst="rect">
            <a:avLst/>
          </a:prstGeom>
          <a:ln w="0">
            <a:noFill/>
          </a:ln>
        </p:spPr>
      </p:pic>
      <p:pic>
        <p:nvPicPr>
          <p:cNvPr id="44" name="sierra_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990720"/>
            <a:ext cx="18381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rwan_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4114800"/>
            <a:ext cx="3505320" cy="2460600"/>
          </a:xfrm>
          <a:prstGeom prst="rect">
            <a:avLst/>
          </a:prstGeom>
          <a:ln w="0">
            <a:noFill/>
          </a:ln>
        </p:spPr>
      </p:pic>
      <p:pic>
        <p:nvPicPr>
          <p:cNvPr id="46" name="jar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76920" y="4114800"/>
            <a:ext cx="3504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řírodní problém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zertifikace (rozšiřování pouští), úbytek pralesů, nedostatek nezávadné vody, snižování živočišných a rostlinných druh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itické problém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zbrojené konflikty (občanské války, terorismus), korup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problém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nemoci (AIDS, spavá nemoc: Tse-tse, malárie: komár Anopheles aj.), chudoba (vzdělání, pdvýživa), nárůst počtu obyvatel, rasismus (aparthe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6:08:36Z</dcterms:created>
  <dc:creator>kk</dc:creator>
  <dc:description/>
  <dc:language>en-US</dc:language>
  <cp:lastModifiedBy>kk</cp:lastModifiedBy>
  <dcterms:modified xsi:type="dcterms:W3CDTF">2006-03-28T16:08:53Z</dcterms:modified>
  <cp:revision>1</cp:revision>
  <dc:subject/>
  <dc:title>Problémy Afriky - chudý jih</dc:title>
</cp:coreProperties>
</file>