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3653-7FFC-4FB8-A6B3-91205D663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112B-0DF5-4A8F-8DEE-7EB6B722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1A59-2CB2-4752-B3C2-0AE2C05FA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ABD5-3170-403E-8899-71E749C5A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7716-C134-433B-97DA-09E818C5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E05C-24C9-45C2-9203-B0E88E42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0CE5-B16A-41FC-87A3-E752EA3F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2EE2-40DC-4384-913A-E4A13F06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99F8-A17B-4FE3-9F5B-F1683D0D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596F-BE63-459A-80D4-E875FFF1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22F3-B5BF-44E7-BE8F-25CAACE2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16B9-8A31-41BE-8B91-77256A7C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8553-1F63-41BF-8721-886C46496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jisti informace k vybranému africkému stát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Základní informac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ázev státu, hlavní město (počet obyvatel), poloha, rozloha (pořadí), celkový počet obyvatel (pořadí), vyhlášení nezávislosti (koloni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řírodní podmínky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ejvyšší a nejnižší bod, řeka, veget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ůmysl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zemědělství, těžba, cestovní ruch (zajímavá míst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byvatelstvo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rbanizace, hustota zalidnění, úřední jazyk, délka života, náboženství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9T17:44:42Z</dcterms:created>
  <dc:creator>kk</dc:creator>
  <dc:description/>
  <dc:language>en-US</dc:language>
  <cp:lastModifiedBy>kk</cp:lastModifiedBy>
  <dcterms:modified xsi:type="dcterms:W3CDTF">2006-11-27T15:11:44Z</dcterms:modified>
  <cp:revision>2</cp:revision>
  <dc:subject/>
  <dc:title>Zjisti informace k vybranému africkému státu:</dc:title>
</cp:coreProperties>
</file>