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D98-5945-453A-9F9E-375A5245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9AB-A3A3-4DD0-B289-627F4DF6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EC1-3421-4D95-8BAF-8636C444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570-4949-42AE-B2E8-F949631B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230-EE22-43F5-B29A-1D72678A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969-EF63-4349-87D0-B8F41F33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805-9A9C-4A3E-8AA5-0CB4A60D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EE5-C63E-4CB9-9B32-1C59EA3E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D20-A836-4FB6-8AEE-D599B3FE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565-A16C-49BE-8765-2304CB48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425-6DA4-466C-959A-5FD26CB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EB0-EEDF-4493-8F0D-1E2E864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233-EC3A-4B70-9258-4DD95AB801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 a nerostné bohatství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http://www.tportal.hr/2004/12/28/0757007.19.jpg"/>
          <p:cNvPicPr/>
          <p:nvPr/>
        </p:nvPicPr>
        <p:blipFill>
          <a:blip r:embed="rId1"/>
          <a:stretch/>
        </p:blipFill>
        <p:spPr>
          <a:xfrm>
            <a:off x="533520" y="1905120"/>
            <a:ext cx="4092480" cy="275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indaba.i8.com/obr/stolovka.jpg"/>
          <p:cNvPicPr/>
          <p:nvPr/>
        </p:nvPicPr>
        <p:blipFill>
          <a:blip r:embed="rId2"/>
          <a:stretch/>
        </p:blipFill>
        <p:spPr>
          <a:xfrm>
            <a:off x="3581280" y="3733920"/>
            <a:ext cx="5349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huru 5895 m x Assalská proláklina –15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las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ver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tlas, Etiopská vyso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Jih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račí hory, Vysoký V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ýchod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chodoafrická příkopová propadlina, Východoafrická vyso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nitrozemí (pánve, plošiny, tabule)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aharsko-sudánská tabule (pouště), Kongžská a Čadská pán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břeží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úzké pásy níž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ště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byjsk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bijsk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lah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http://w1.878.telia.com/~u87811334/gallery/Kalahari.jpg"/>
          <p:cNvPicPr/>
          <p:nvPr/>
        </p:nvPicPr>
        <p:blipFill>
          <a:blip r:embed="rId1"/>
          <a:stretch/>
        </p:blipFill>
        <p:spPr>
          <a:xfrm>
            <a:off x="3809880" y="3352680"/>
            <a:ext cx="5334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ro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pa a zemní ply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everní Afrika, Guinejský zál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dy barevných kovů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provincie SHA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Zlato a diaman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JAR, SHA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sfá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everní Afr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engr.calvin.edu/courses/South%20Africa/Heun%20interim%20pictures/images/Kimberly%20Bighole_jpg.jpg"/>
          <p:cNvPicPr/>
          <p:nvPr/>
        </p:nvPicPr>
        <p:blipFill>
          <a:blip r:embed="rId1"/>
          <a:stretch/>
        </p:blipFill>
        <p:spPr>
          <a:xfrm>
            <a:off x="4754520" y="743040"/>
            <a:ext cx="4389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8:09:10Z</dcterms:created>
  <dc:creator>kk</dc:creator>
  <dc:description/>
  <dc:language>en-US</dc:language>
  <cp:lastModifiedBy>PC</cp:lastModifiedBy>
  <dcterms:modified xsi:type="dcterms:W3CDTF">2014-04-23T18:58:58Z</dcterms:modified>
  <cp:revision>3</cp:revision>
  <dc:subject/>
  <dc:title>Povrch a nerostné bohatství Afriky</dc:title>
</cp:coreProperties>
</file>