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8FF-468E-41CF-8D76-9ABC8A68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DC5-4936-49F4-973B-4D691F34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1F8-91EC-44CE-A88F-BB63058B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962-B92B-489E-916E-5801C147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B8B-3A76-4FD0-8A28-BD49BE82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18F-A36E-48A8-AAA5-A8E3E45D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276-2E77-4C09-991D-C65AC479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148-863F-4559-BC93-1248C23E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B0B-A052-434F-8336-1371164F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01A-F9E6-4441-85B1-41A7C063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AB12-F964-4516-843E-CA661DDC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C0A-B3CA-4E7A-9C40-1AAD3225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E50C-375E-4A30-9D1B-E82A2756A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R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oha, rozloha, členitost pobřež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114960" cy="5398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kresli náčrt mapy Afr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jaké polokouli leží AFRIKA a s kým soused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aké jsou mezní body AFRIK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 nejsevernější, nejjižnější, nejvýchodnější, nejzápadnější (název a zeměpisné souřadn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ndického oceánu zasahuje ……… poloostro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Indickém oceánu leží ve vzdálenosti ……… km 4 největší ostrov světa…………. a dalšími ostrovy jsou 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Atlantském oceánu leží souostroví …………….. a 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náčrtu mapy Afriky dopl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ovník, nultý poledník, obratníky Raka a Kozoro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piš jaká je rozloha Afriky v km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piš: Somálský poloostrov, Madagaskar, Gibraltarský průliv a Suezský průpla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oplň a popiš: Kapverdské ostrovy, Kanárské ostrovy, Reúnion, Zanzibar, Komory, Seychely a Maskaré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21:52:18Z</dcterms:created>
  <dc:creator>kk</dc:creator>
  <dc:description/>
  <dc:language>en-US</dc:language>
  <cp:lastModifiedBy>kk</cp:lastModifiedBy>
  <dcterms:modified xsi:type="dcterms:W3CDTF">2006-03-12T21:53:05Z</dcterms:modified>
  <cp:revision>1</cp:revision>
  <dc:subject/>
  <dc:title>AFRIKA</dc:title>
</cp:coreProperties>
</file>