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12E-5E1C-490C-8A06-D1860E5E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A45-6E5D-4D68-9FF9-0203411C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EE3-FFF1-4058-91F6-E4C62E59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E68-7E28-4B68-8D71-094F0769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E32-6A31-4F87-B885-65970278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2A5-607A-4E50-BDA4-23EA1792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428-3517-4AE4-8C61-FC8E8696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C01-2EA8-45A4-8993-8D965BCA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C9E-11BF-4ABA-BDF1-144B80C6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A45-D802-4716-8F75-7CD468F3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B35-B1D6-468D-AF12-9BC7098D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E25-8EF9-484D-86B8-248DA088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7175-03C4-4D21-8DED-004087326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jisti informace k vybranému africkému stát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informac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ázev státu, hlavní město (počet obyvatel), poloha, rozloha (pořadí), celkový počet obyvatel (pořadí), vyhlášení nezávislosti (koloni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řírodní podmínk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jvyšší a nejnižší bod, řeka, veget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ůmys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emědělství, těžba, cestovní ruch (zajímavá mís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rbanizace, hustota zalidnění, úřední jazyk, délka života, náboženstv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44:42Z</dcterms:created>
  <dc:creator>kk</dc:creator>
  <dc:description/>
  <dc:language>en-US</dc:language>
  <cp:lastModifiedBy>kk</cp:lastModifiedBy>
  <dcterms:modified xsi:type="dcterms:W3CDTF">2006-05-09T17:52:37Z</dcterms:modified>
  <cp:revision>2</cp:revision>
  <dc:subject/>
  <dc:title>Zjisti informace k vybranému africkému státu:</dc:title>
</cp:coreProperties>
</file>