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69E7-11C3-4F77-A494-29365FE9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A043-40F5-4A8E-818C-05592D5C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76D-1ECD-49C7-8C64-9CC24815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1A97-916A-4284-B59E-E56EA81B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B91-5549-4C2B-ADD5-05A9AAE4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1B9-A230-4FC9-BE97-FF953E12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8725-4578-4C7E-842B-08EFFB6F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FA26-BF07-471E-A430-F2303929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8614-A685-42D1-9F49-AA6DE3C1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EF4E-DA7B-4B5F-96F7-CF88C05D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AA7B-30F0-4E6F-BCF0-1E81732C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EEC6-A60F-4A54-928F-FBF2BF2E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0305-4F50-4D89-A97D-E88B9B488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3.jpeg"/><Relationship Id="rId5" Type="http://schemas.openxmlformats.org/officeDocument/2006/relationships/slide" Target="slide2.xm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slide" Target="slide3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rika – obyvatelstvo a síd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womchil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09624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olébka lidst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Tanzan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vní civiliz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gypt, Kartág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abové sever Afrik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7. stolet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vropané od 15. stolet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kolonie – FR, VB, N, ŠP) do 20. století (poté dekolonizace – 1960 rok Afrik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3733920"/>
            <a:ext cx="2193840" cy="2925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24480" y="152280"/>
            <a:ext cx="2313000" cy="207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629400" y="320040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514600" y="3429000"/>
            <a:ext cx="40006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časnost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42660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s 1 mld. obyvatel(2010)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stré národnostní a rasové slože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Vysoký přirozený přírůstek, vysoká kojenecká úmrtnost, krátká délka živ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kupiny národů a ras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ílá (sever – Arabové, jih – Evropan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íková Afrika – černoš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dagaskar – Malgaš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jednocujícím prvkem zemí není národnos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le jazyk bývalých kolonizátorů (války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0" y="4572000"/>
            <a:ext cx="3276720" cy="2136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629400" y="2362320"/>
            <a:ext cx="235440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ídlení a síd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rovnoměrné díky přírodním podmínká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méně (pouště, hory, prales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íce (okolí řek, okolí Viktoriina j. a j. Tanganika, pořeží Guinejského zálivu a sever Afrik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ětší města: Káhira, Lagos, Alexandrie, Kinshasa, Abidj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4389480" cy="291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76920" y="365760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yvatelstvo - práce s atlase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ustota osídlení (atlas str. 20-21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jvíce………………………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jméně a neosídleno………………………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jvyšší přirozený přírůstek obyvatel mají státy (atlas str. 22)……………………….. (srovnej s Č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azyky (atlas str. 18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ver:………………………………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pad a střed………………………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ih…………………………………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gola a Mosambik………………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boženství (atlas str. 19)………………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jvětší města - aglomerace nad 5 milionů obyvatel (atlas str. 20-21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lavní a smíšené rasy (atlas str. 23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) sever……………. b) povodí Nilu……………... c) střed a jih…………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) Madagaskar……………..e) JAR…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jdi vybrané skupiny národů (atlas str. 23): Arabové, Bantuové, Berbeři a Tuareg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yvatelstvo - práce s atlasem řešení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ustota osídlení (atlas str. 20-21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jvíce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delta Ni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jméně a neosídleno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ahara a další pouštní obla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jvyšší přirozený přírůstek obyvatel mají státy (atlas str. 22)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Nigérie, Ghana, Botswana, Uganda, Keňa, Liby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srovnej s ČR –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přirozený úbytek obyvate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azyky (atlas str. 18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ver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arabš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pad a střed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francouzština a anglič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ih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anglič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gola a Mosambik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portugalš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boženství (atlas str. 19)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islám, animisté, křesťanstv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jvětší města - aglomerace nad 5 milionů obyvatel (atlas str. 20-21)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Káhira, Kinshasa, La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lavní a smíšené rasy (atlas str. 23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) sever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europoidní (semitská a hamitská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b) povodí Nilu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omálci, Nilot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c) střed a jih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afričtí černoš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d) Madagaskar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Malgašové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) JAR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Jihoafriča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jdi vybrané skupiny národů (atlas str. 23): Arabové (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eve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, Bantuové (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třed a ji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, Berbeři a Tuaregové (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ever - kočovníc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áty Afri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6624720" cy="3432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9280" y="836640"/>
            <a:ext cx="8744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 osmisměrce je schováno 17 názvů afrických států. Hledané státy jsou zvýrazněny na přiložené mapce – vašim úkolem je najít všechny státy v osmisměrce tak, aby vám ze zbylých písmen vyšla tajenka. Tajenkou je název dalšího afrického státu. Vyluštěte, o který stát jde, a doplňte další požadované informa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88000" y="2924280"/>
            <a:ext cx="279108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 tajen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 hlavní město tohoto stá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) název pouště, která se nachází na území tohoto stá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) název státu, se kterým má nejkratší hrani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2720" y="592308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droj: Dnešní svě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áty Afriky - řeš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3905280" cy="3362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2421000"/>
            <a:ext cx="439236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) Tajenku -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otsw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) hlavní město tohoto státu -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abor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) název pouště, která se nachází na území tohoto státu -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alah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) název státu, se kterým má nejkratší hranici -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amb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rika - hospodářstv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frika je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ejchudší světadí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to i přesto, že má dostatek nerostných surovina pracovních s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kážkou hospodářského rozvoje 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ilná orientace na těžební průmysl, který dále nezpracovávaj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nokultrurní zeměděství (plantáže -  vývoz, obživa – malá políčk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álo rozvinutá doprava – jen od zdrojů k nejbližšímu přístav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álo rozvinutý zpracovatelský průmysl a služby (chybí kvalifikovaní pracovníci – vysoká negramotnost, malá vzdělan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3564000" cy="2342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508720" y="3645000"/>
            <a:ext cx="3851280" cy="2576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203640" y="3068640"/>
            <a:ext cx="23796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6:05:20Z</dcterms:created>
  <dc:creator>kk</dc:creator>
  <dc:description/>
  <dc:language>en-US</dc:language>
  <cp:lastModifiedBy>jj</cp:lastModifiedBy>
  <dcterms:modified xsi:type="dcterms:W3CDTF">2011-05-31T13:29:59Z</dcterms:modified>
  <cp:revision>14</cp:revision>
  <dc:subject/>
  <dc:title>Afrika – obyvatelstvo a sídla</dc:title>
</cp:coreProperties>
</file>