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CF6-1318-43D8-AC67-157F4E61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B67-029F-4A10-ACED-5CB199F9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4F2-A570-4B76-B912-28E95291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437-A0E8-4B87-8DCD-AD7B3802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419-5EAC-4B40-9084-D34FC917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964-F083-4464-83F9-2FBA6B7F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971-2F29-4A0E-BC3F-FB288BC1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0B0-E31C-4EC0-A998-A9DE8D11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FCC-304E-4698-874F-9B6AF2AB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265-BB54-401D-AB46-34AACCBB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282-B036-48B5-9444-602AD7B7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283-76A1-4AD3-A7BD-A812188E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2863-6C8C-442A-8470-FA4F3640E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žní Afr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frica-countries-southern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114800" cy="4480200"/>
          </a:xfrm>
          <a:prstGeom prst="rect">
            <a:avLst/>
          </a:prstGeom>
          <a:ln w="0">
            <a:noFill/>
          </a:ln>
        </p:spPr>
      </p:pic>
      <p:pic>
        <p:nvPicPr>
          <p:cNvPr id="43" name="zoom_southern_africa" descr=""/>
          <p:cNvPicPr/>
          <p:nvPr/>
        </p:nvPicPr>
        <p:blipFill>
          <a:blip r:embed="rId2"/>
          <a:stretch/>
        </p:blipFill>
        <p:spPr>
          <a:xfrm>
            <a:off x="5181480" y="2895480"/>
            <a:ext cx="3314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Přírodní podmín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vyšší pohoří na jihu Afriky (5 + 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řed kontinentu na jihu Afriky vyplňuje poušť (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pobřeží Atlantiku leží poušť (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jihu Afriky patří i největší ostrov Afriky (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významnějším jezerem na jihu Afriky je 2. nejhlubší jezero Afriky (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.š. a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.d. leží bažiny (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ktoríny vodopády leží na řece (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Indického oceánu vtéká ještě jedna významná řeka (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Dračích horách pramení řeka vtékající do Atlantiku (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trov Madagaskar odděluje od světadílu průliv (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jižnějším místem Afriky je (9) m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kticky celou Jižní Afriku pokrývá vegetační pás (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N_W_15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4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Socioekonomické podmín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romě JAR jde o státy rozvojové (chudé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tv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plantážnictví, chov sko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ůmys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obrovské zásoby nerostů (vývo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yvatelé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Křováci (původní obyvatelé), bantuské kmeny (černoši), Búrové (holandští přistěhovalci), Malgašové (Madagaskar). Kolonie Velké Británie a Francie (osvobozenecký boj v 60. letech 20. století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108_20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3733920"/>
            <a:ext cx="3733560" cy="2182680"/>
          </a:xfrm>
          <a:prstGeom prst="rect">
            <a:avLst/>
          </a:prstGeom>
          <a:ln w="0">
            <a:noFill/>
          </a:ln>
        </p:spPr>
      </p:pic>
      <p:pic>
        <p:nvPicPr>
          <p:cNvPr id="51" name="comandos%20boer%20en%20natal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4033800"/>
            <a:ext cx="35812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Stá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go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ots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sot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adagask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alaw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zambi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mi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vazijsk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m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imbab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íce z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pe%20town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905120"/>
            <a:ext cx="44956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6:41:34Z</dcterms:created>
  <dc:creator>kk</dc:creator>
  <dc:description/>
  <dc:language>en-US</dc:language>
  <cp:lastModifiedBy>kk</cp:lastModifiedBy>
  <dcterms:modified xsi:type="dcterms:W3CDTF">2006-04-25T18:12:34Z</dcterms:modified>
  <cp:revision>7</cp:revision>
  <dc:subject/>
  <dc:title>Jižní Afrika</dc:title>
</cp:coreProperties>
</file>