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B6B-46D7-4779-AB21-49DD4C5A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6E3-158F-4D40-AE58-2B1EC66E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EAD-42C7-4084-AA95-1C9BE2E1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EFC-C1E6-48A5-A45D-BD9FD80B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E6A-A8F3-4B66-934F-4491F42B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F46-CD06-46C9-823E-FA0A5D0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9FD-7F35-4779-9A21-882A481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1F4-2C13-405E-AF13-C9CDDC5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9A9-36BF-4576-81CE-FF6F068E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39A-8CA7-4644-824F-92769E95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249-B421-4AAB-AF74-C50BE93C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E61-3239-4703-A3B0-1743F2EF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DBCA-A5C1-42C9-B310-C1D14C440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PT (Káhira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mě faraón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g-map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046400" cy="4343400"/>
          </a:xfrm>
          <a:prstGeom prst="rect">
            <a:avLst/>
          </a:prstGeom>
          <a:ln w="0">
            <a:noFill/>
          </a:ln>
        </p:spPr>
      </p:pic>
      <p:pic>
        <p:nvPicPr>
          <p:cNvPr id="43" name="P4190227" descr="klikněte pro zobrazení původního obrázku"/>
          <p:cNvPicPr/>
          <p:nvPr/>
        </p:nvPicPr>
        <p:blipFill>
          <a:blip r:embed="rId2"/>
          <a:stretch/>
        </p:blipFill>
        <p:spPr>
          <a:xfrm>
            <a:off x="4419720" y="19051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Přírodní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 rozlohy pouště (vodstvo, města, zemědělská půd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nebí suché pouštní (prší jen 7 dní do roka), jarní vítr chamsín, pobřeží středomořské podneb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ibory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7100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nil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Společ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Dějin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raónové, Římané, Turci, Britové, nezávislost od roku 195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abové a Berbeři, náboženství islám, většina obyvatel žije v deltě Nilu (Alexandrie, Káhira, Gíza, Port Saí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bu-simbel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4114800" cy="2867040"/>
          </a:xfrm>
          <a:prstGeom prst="rect">
            <a:avLst/>
          </a:prstGeom>
          <a:ln w="0">
            <a:noFill/>
          </a:ln>
        </p:spPr>
      </p:pic>
      <p:pic>
        <p:nvPicPr>
          <p:cNvPr id="51" name="cairo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343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Hospodář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elláhové (zemědělští dělníci) obdělávají pobřeží Nilu (bavlna, cukrová třtina, pšen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ěžba ropy, potravinářství, správa průplavu, cestovní r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gr_fayoum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479680" cy="3505320"/>
          </a:xfrm>
          <a:prstGeom prst="rect">
            <a:avLst/>
          </a:prstGeom>
          <a:ln w="0">
            <a:noFill/>
          </a:ln>
        </p:spPr>
      </p:pic>
      <p:pic>
        <p:nvPicPr>
          <p:cNvPr id="55" name="sfinga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51814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9:44:06Z</dcterms:created>
  <dc:creator>kk</dc:creator>
  <dc:description/>
  <dc:language>en-US</dc:language>
  <cp:lastModifiedBy>kk</cp:lastModifiedBy>
  <dcterms:modified xsi:type="dcterms:W3CDTF">2006-04-09T20:01:16Z</dcterms:modified>
  <cp:revision>3</cp:revision>
  <dc:subject/>
  <dc:title>EGYPT (Káhira) země faraónů</dc:title>
</cp:coreProperties>
</file>